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jpeg" ContentType="image/jpeg"/>
  <Override PartName="/ppt/media/image2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5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1713-8518-4FC3-8A9D-01D6ED626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091A-805C-42E5-BF3F-EE356F59A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43DDD-547F-4153-8ADD-4E6509A38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BE33-E877-4592-9728-469A1D51E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B96C-7950-45A7-88A9-41892B924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3DE5-1BBD-4209-92CB-EC0E0BE0F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BB15-5539-4A08-BDB5-8C06AD8B7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71C8-AC24-47D7-B68D-7005CE79C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0955-31F3-4B77-8248-43EF11E4E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36/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8FB6-F038-4D76-9E1A-CAE17ECCD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9CC8-D01E-4774-A0A5-E05404B9B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A01B-C1D3-4FDC-8871-43876707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62E-B77F-40AF-B6C4-C9EF7699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130C-19DA-46E2-9B9D-D6A61CFD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C7AB-015C-48DD-B6CD-CB47D2CA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282F-A10A-4B64-A5D6-B0272DAB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2959-5554-43C5-806E-1017954F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0F46-7FC6-4188-ACCF-8B6EE0D1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E1DC-E194-462D-8BC3-3A493309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2DA-DA01-49AA-8BFB-D774FB56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EF82-09C5-4F15-834D-EBB8F284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E69D-4B7F-4F07-8D50-3ACD76794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8E72-B315-496B-8116-C3DE2E9832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ГИЈЕНА И ЕКОЛОГ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ДРУГА НЕДЕЉА НАСТА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333360"/>
            <a:ext cx="79250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стоје две дефиниције зву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. Физи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вук је низ промена било притиска, померања честица, механичког напона или каквог другог напрезања, које се јавља у еластичној или вискозној среди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Физиол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вук је све оно што чујемо, тј. Звук је осећај који се прима преко органа слуха,  а изазван је променама ваздушног прит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762120" y="1828800"/>
            <a:ext cx="746748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ек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зивај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“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Ш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лу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к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приорецеп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уте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плотн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војст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ханичк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ач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руј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мај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ач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јач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ерморегулацион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хан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к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дражај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ЦНС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ВС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762120" y="2057400"/>
            <a:ext cx="746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ји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м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ож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опа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температур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ваздух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преко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19</a:t>
            </a:r>
            <a:r>
              <a:rPr b="1" i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прохладан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температур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ваздух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11-18</a:t>
            </a:r>
            <a:r>
              <a:rPr b="1" i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хладан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температур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ваздух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10</a:t>
            </a:r>
            <a:r>
              <a:rPr b="1" i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762120" y="2057400"/>
            <a:ext cx="74674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к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“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”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и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ачу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еличин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асхлађ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дравствен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та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бјективн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сећај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главни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регулатор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времен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излагањ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ремен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зима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хра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купати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тек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1,5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након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узимања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sr-CS" sz="2800" spc="-1" strike="noStrike">
                <a:solidFill>
                  <a:srgbClr val="000066"/>
                </a:solidFill>
                <a:latin typeface="Times New Roman"/>
              </a:rPr>
              <a:t>хране</a:t>
            </a:r>
            <a:r>
              <a:rPr b="1" i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762120" y="1752480"/>
            <a:ext cx="746748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чин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лага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њ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поступа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чи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викнут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ло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ел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лак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ткривај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руг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лов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Почињ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“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ваздушним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бањам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”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кој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имај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комфорн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слов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о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мфор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д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комформ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сл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ко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уп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бавезн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треб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крет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762120" y="1676520"/>
            <a:ext cx="7467480" cy="47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ч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уд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поступ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в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5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и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ваког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редног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дужи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5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и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стиз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бр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игментаци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га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поче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укам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огам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ољ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ра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леђ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руд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н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нутрашњестра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екстремитет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лаби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ж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рбух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клад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јачином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зраче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UV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кал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акв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глав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ч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ткривен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делов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тел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период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10-17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заштићен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директног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унчевог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зрачењ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762120" y="14922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чање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а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лажем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лтравиолетн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нфрацрвен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"/>
          <p:cNvPicPr/>
          <p:nvPr/>
        </p:nvPicPr>
        <p:blipFill>
          <a:blip r:embed="rId1"/>
          <a:stretch/>
        </p:blipFill>
        <p:spPr>
          <a:xfrm>
            <a:off x="990720" y="3086280"/>
            <a:ext cx="678168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179280" y="1676520"/>
            <a:ext cx="82789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лтравиолет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физички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собинам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птичк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адијациј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рзи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рета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300000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km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електромагнетског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арактер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дел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315-400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ритемн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јств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њ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ивн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280-315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ктерицидн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тирахитичн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јство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Ц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сп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280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µ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убија живе ћел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5" descr="http://blog.meteo-info.hr/wp-content/uploads/2009/10/1.jpg"/>
          <p:cNvPicPr/>
          <p:nvPr/>
        </p:nvPicPr>
        <p:blipFill>
          <a:blip r:embed="rId1"/>
          <a:stretch/>
        </p:blipFill>
        <p:spPr>
          <a:xfrm>
            <a:off x="6875640" y="1136520"/>
            <a:ext cx="183024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762120" y="2060640"/>
            <a:ext cx="769608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66"/>
                </a:solidFill>
                <a:latin typeface="Times New Roman"/>
              </a:rPr>
              <a:t>Ултравиолетно</a:t>
            </a:r>
            <a:r>
              <a:rPr b="1" lang="sr-Latn-CS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66"/>
                </a:solidFill>
                <a:latin typeface="Times New Roman"/>
              </a:rPr>
              <a:t>зра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з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плотн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ветлосн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к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идљив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л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чев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ектр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стој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нај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видљив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лтраљубичастих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к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: 40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%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чин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нфрацрвен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ам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10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%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чев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ектр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чин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лтраљубичаст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чењ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ај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ектр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иолошк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јактивниј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762120" y="1523880"/>
            <a:ext cx="7467480" cy="49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лтравиолет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адијациј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тич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оложај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у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дебљин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лој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астав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дморск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вис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метеоролошке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ојаве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радијацију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рефлектују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нег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ко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75%)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мањ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блац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100%)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густин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сељеност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великим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градовим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радијациј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мањен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ко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1/5,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им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ижем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оложају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унца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више</a:t>
            </a:r>
            <a:r>
              <a:rPr b="1" lang="sr-Latn-CS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762120" y="1787400"/>
            <a:ext cx="7543800" cy="48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нд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ндекс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дстављ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невн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гноз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чекиван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изик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комерн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гањ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казуј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епен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през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ј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ор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зет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бзир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ликом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оравк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твореном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двиђ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ачин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ређен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дручј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ледећем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н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кал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0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10+ (0 =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инималн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изи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10+=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рло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исок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изик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омерног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гањ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зимајућ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бзир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ременск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лик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пу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блачност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етр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ругих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локалних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мен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ј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тич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личину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рак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7020000" y="1052640"/>
            <a:ext cx="203508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685800" y="220680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рган слуха код људи је неосетљив на сталан ваздушни притисак, али је осетљив на брзе промене притиска које се стварају вибрирањем површ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стојање између два узастопна слоја сабијеног или два узастопна слоја разређеног ваздуха је ТАЛАСНА ДУЖ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762120" y="1371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нде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4" descr=""/>
          <p:cNvPicPr/>
          <p:nvPr/>
        </p:nvPicPr>
        <p:blipFill>
          <a:blip r:embed="rId1"/>
          <a:stretch/>
        </p:blipFill>
        <p:spPr>
          <a:xfrm>
            <a:off x="914400" y="2109960"/>
            <a:ext cx="754380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762120" y="1371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нде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378000" y="2205000"/>
            <a:ext cx="846432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762120" y="1371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нде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"/>
          <p:cNvPicPr/>
          <p:nvPr/>
        </p:nvPicPr>
        <p:blipFill>
          <a:blip r:embed="rId1"/>
          <a:stretch/>
        </p:blipFill>
        <p:spPr>
          <a:xfrm>
            <a:off x="914400" y="1976400"/>
            <a:ext cx="70866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762120" y="1660680"/>
            <a:ext cx="784836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SP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od Solar Protection Factor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ктор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штите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ца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говор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м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колик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росечн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можем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стат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уз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римену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редстав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дређеним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аштитним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фактором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стану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пекотин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в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хватит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уз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граничењ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ависн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тип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кож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ајосетљивиј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у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црвенкос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лавокос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дец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овећањ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аштитног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фактор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н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знач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ропорционално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повећањ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дужине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игурног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излагањ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"/>
          <p:cNvSpPr/>
          <p:nvPr/>
        </p:nvSpPr>
        <p:spPr>
          <a:xfrm>
            <a:off x="762120" y="1676520"/>
            <a:ext cx="746748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олош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авис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алас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ужи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шт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раћа-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ач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ложе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л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ндивидуалне осетљивос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време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тал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762120" y="1676520"/>
            <a:ext cx="7467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олош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ож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локал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пш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ри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ште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762120" y="1676520"/>
            <a:ext cx="7467480" cy="45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олош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вод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H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ж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аст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иселост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мању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таболиза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ећ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пш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исајн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табол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ећ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таболиза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холестер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маж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азградњ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еланчеи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ас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гљен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хидрат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ијабетес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јач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аложе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с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876240" y="1268280"/>
            <a:ext cx="7467840" cy="52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Биолош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рач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вод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ећ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учива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окраћ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исели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ихт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спор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дубљу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четк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ећ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ко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јав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еритем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ниж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рвн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тис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10%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брз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цирку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ећ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рој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а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агулабилност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имулиш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вара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нти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762120" y="1676520"/>
            <a:ext cx="746748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през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чањ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мај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соб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ж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ани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1,5-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л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а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л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ешк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варљив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хран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3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лад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матр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меј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г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ц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нчај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ун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ул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вгуст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10-17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ал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сматич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лав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760320" y="1268280"/>
            <a:ext cx="746784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през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чањ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мај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болел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Б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стен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еуровегетативни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сих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иг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тивни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метњ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хематопоезни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бољ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немиј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р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жни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боље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узетак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соријаз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539640" y="549360"/>
            <a:ext cx="820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рзина којом површина посматраног тела вибрира је ФРЕКФЕНЦ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број осцилација у једној секунди) и зражава се у херцима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z). Човечије ухо може да чује звучне таласе од 16 до 20000 Hz, а најбоље чује од 500 до 4000 Hz. Звучни таласи испод 16 Hz се називају инфразвук, а изнад 20000 Hz ултразв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ЛАСНОСТ БУКЕ се одређује органом слуха и зависи од јачине и фрекфенцијског састава буке. Јединица гласности је фон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. Један фон је јачина 1 децибел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на фрекфенцији од 1000 H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795240" y="1989000"/>
            <a:ext cx="746784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МАТР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УНЧАЊ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МАЊ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У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ОСЕТЉИВ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ЗДРАВ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ТАР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АМНОПУТИ ЉУД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ОТКРИВЕН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ЕЛОВ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МАТР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СУНЧАЊ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РЕБ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ПРЕКИНУТИ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ЈЕДНОМ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НЕДЕЉНО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РАЈАЊУ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ЈЕДНОГ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АН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762120" y="1523880"/>
            <a:ext cx="7467480" cy="49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ред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чув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лич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хигије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Вод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им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изразитије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ваздуха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температурно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т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ж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ег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ст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емператур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плот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оводљивост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ој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3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ут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ећ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механичко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лаз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ражај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какањ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лива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762120" y="1752480"/>
            <a:ext cx="74674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дел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нос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плот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хлад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16</a:t>
            </a:r>
            <a:r>
              <a:rPr b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охлад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(16-24</a:t>
            </a:r>
            <a:r>
              <a:rPr b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лак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(24-32</a:t>
            </a:r>
            <a:r>
              <a:rPr b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пл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(32-40</a:t>
            </a:r>
            <a:r>
              <a:rPr b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рућ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е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40</a:t>
            </a:r>
            <a:r>
              <a:rPr b="1" lang="sr-Latn-CS" sz="28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762120" y="301788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циљу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јачања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најкорисниј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су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хладн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прохладн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вод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краћ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процедуре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2"/>
          <p:cNvSpPr/>
          <p:nvPr/>
        </p:nvSpPr>
        <p:spPr>
          <a:xfrm>
            <a:off x="762120" y="1600200"/>
            <a:ext cx="7467480" cy="41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чин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пликаци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Љ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СИП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УШ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762120" y="1600200"/>
            <a:ext cx="746748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1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Љ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лак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влажен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рп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брус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л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ђер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ља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ел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чев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ук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ог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кон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рљањ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суши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ви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брус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СИП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лаз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пл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даљенос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8-1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ц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ипа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аме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рат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с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леђ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емператур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степе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нижава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суши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ешкир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762120" y="1600200"/>
            <a:ext cx="74674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1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УШИР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опл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удаљенос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20-20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ц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ушират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уш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итиско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2-4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тмосфер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Т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јача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еханич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2.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УП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м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разит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зитив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дејств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себн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ак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окрећ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762120" y="1600200"/>
            <a:ext cx="7467480" cy="50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Реакциј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хладн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у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јјач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израђе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рвн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дов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кож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з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же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рвн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до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сећај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хладно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I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шире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рвн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до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јаа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сећај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пло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II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нов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же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рвн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удо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чем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ж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јеж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с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модр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з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сећај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хладноћ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рхтав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762120" y="1600200"/>
            <a:ext cx="7467480" cy="46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Препорук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за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поче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ле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стави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ко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цел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оди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јбољ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ступак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роводи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јутр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ко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утар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имнастик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а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цес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почи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на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20</a:t>
            </a:r>
            <a:r>
              <a:rPr b="1" lang="sr-Latn-CS" sz="2400" spc="-1" strike="noStrike" baseline="30000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релатив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лаг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40-80%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рзи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руј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0,5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76212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ХИГИЈЕН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762120" y="2649600"/>
            <a:ext cx="701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буке разликујемо пре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орек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Трајању у врем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места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лног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временог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рав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а производ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друг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их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лич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о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имо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ос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урал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3929040" y="5143680"/>
            <a:ext cx="1838520" cy="1342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4" descr=""/>
          <p:cNvPicPr/>
          <p:nvPr/>
        </p:nvPicPr>
        <p:blipFill>
          <a:blip r:embed="rId2"/>
          <a:stretch/>
        </p:blipFill>
        <p:spPr>
          <a:xfrm>
            <a:off x="6215040" y="0"/>
            <a:ext cx="24670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градом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подразумевамо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већ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насеље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ме: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лавнин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ништв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жи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већ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пољопривред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венств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времен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ов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жај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гледу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јама и велич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2" descr=""/>
          <p:cNvPicPr/>
          <p:nvPr/>
        </p:nvPicPr>
        <p:blipFill>
          <a:blip r:embed="rId1"/>
          <a:stretch/>
        </p:blipFill>
        <p:spPr>
          <a:xfrm>
            <a:off x="5562720" y="260280"/>
            <a:ext cx="1989000" cy="12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ивот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 изградњ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сок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људ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 њихових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ктивност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езбедити одговарају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изич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ви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вља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питива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пулацијама насељ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но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ире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љопривредног земљиш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одговарајућ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обилаз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о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аб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му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ви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м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с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елити 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цел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обраћ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лн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Picture 3" descr=""/>
          <p:cNvPicPr/>
          <p:nvPr/>
        </p:nvPicPr>
        <p:blipFill>
          <a:blip r:embed="rId1"/>
          <a:stretch/>
        </p:blipFill>
        <p:spPr>
          <a:xfrm>
            <a:off x="6432480" y="3500280"/>
            <a:ext cx="20685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323640" y="404640"/>
            <a:ext cx="85899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з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бром саобраћај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з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ункционис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иј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јеката неопходн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кључк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раструктур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в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м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и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ан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оди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 аеро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ук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180972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3000" spc="-1" strike="noStrike">
                <a:solidFill>
                  <a:srgbClr val="000000"/>
                </a:solidFill>
                <a:latin typeface="Calibri"/>
              </a:rPr>
              <a:t>зо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ункционал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и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уз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јвећ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ск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иториј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упиш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ич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ро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нов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лику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зив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п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тамбена јединица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микрорејон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уперблок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нов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и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једниц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уч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граниче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лавни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ица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њу ч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атећ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 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обраћајниц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нута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л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т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6516720" y="5229360"/>
            <a:ext cx="198756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Стамбен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к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град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тамбе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аг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гну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уж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јентаци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обраћај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за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оља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лажа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ндустријској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о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лиз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дра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лов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род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6500880" y="108000"/>
            <a:ext cx="221436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Централн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о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упљ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з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овног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говин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штв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оститељ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ас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с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а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фер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дир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плић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о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е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тности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дског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нтр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уже потреб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се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6" name="Picture 2" descr=""/>
          <p:cNvPicPr/>
          <p:nvPr/>
        </p:nvPicPr>
        <p:blipFill>
          <a:blip r:embed="rId1"/>
          <a:stretch/>
        </p:blipFill>
        <p:spPr>
          <a:xfrm>
            <a:off x="6156360" y="214200"/>
            <a:ext cx="21906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4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ли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нитар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игије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хемиј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еханич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ечишћав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улисањ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мператур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латив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лажнос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ијациј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ук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ерозагађење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тиче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генерацију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да</a:t>
            </a: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ази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јатн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сихичко ст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чове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стет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мисл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6732720" y="5373720"/>
            <a:ext cx="165564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ја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авез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ављ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 саобраћајниц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к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дустријск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лекс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алих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пут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пон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унално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ас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5019840" y="4149720"/>
            <a:ext cx="22381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62120" y="2619360"/>
            <a:ext cx="7696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пореклу разликују се две врсте бу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а. Бука природних из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б. Бука онога што је човек створи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2120" y="727200"/>
            <a:ext cx="75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РСТЕ БУКЕ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порек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он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зеленила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рекреациј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28760" y="1643040"/>
            <a:ext cx="846432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ортс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р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бјект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сунча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писн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ијентисан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обром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истему водоснабдева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даље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гадје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иш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лобод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мо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ећ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вантитатив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ступљеност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склађив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пецифичности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нкрет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рба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рисн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дитељск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дициј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енденција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звој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5" name="Picture 2" descr=""/>
          <p:cNvPicPr/>
          <p:nvPr/>
        </p:nvPicPr>
        <p:blipFill>
          <a:blip r:embed="rId1"/>
          <a:stretch/>
        </p:blipFill>
        <p:spPr>
          <a:xfrm>
            <a:off x="6715080" y="171360"/>
            <a:ext cx="192888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но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људ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стан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з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штит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гур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товрем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огућ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довољав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ногих друг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овеков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сихолош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оцијал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ном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лтур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5572080" y="214200"/>
            <a:ext cx="223848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ли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ж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ојст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хитектонс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ремље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функционал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банистич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лиз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реатив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еле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ши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ступност садржа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акоденев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реб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колош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фо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5929200" y="0"/>
            <a:ext cx="278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Значај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здравог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тановањ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постаје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временом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Calibri"/>
              </a:rPr>
              <a:t>бита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орбогени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фактор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астанак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нфекциј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ређивања</a:t>
            </a:r>
            <a:r>
              <a:rPr b="0" lang="pl-PL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ро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лерги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валитетн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ановањ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влач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об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ледећ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суств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разновр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рбаних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исо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утомобил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потреб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штетн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одржив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рађевинских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иза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теп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ржава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штећењ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онструкциј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елик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отрошњ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м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мбен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зависн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ољашњих парамета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бор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еј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он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стема пости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говарају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мперату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лажност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ијам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љн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ина свеже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7045200" y="836640"/>
            <a:ext cx="16956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новима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рши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илтрациј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родном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механич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вед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мал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вежег ваздух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лаз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нутрашњ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стор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ивач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згра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мулира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 узрок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1"/>
          <a:stretch/>
        </p:blipFill>
        <p:spPr>
          <a:xfrm>
            <a:off x="7236000" y="836640"/>
            <a:ext cx="15746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икроклиматск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тан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ш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блем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стано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ћ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кључу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ве акције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иминација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ола извор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ећан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илаци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постављање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еђај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чишћавањеваздух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7524720" y="765000"/>
            <a:ext cx="125892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светљавањ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тамбених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простор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и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м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безбеђу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мфорније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валитетније освјетље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ештачки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к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еб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вор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лос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ог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од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ењ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трош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ерги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њом повезан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рошков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обр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јектовани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стем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невн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светљењ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бегавају 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комерн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ја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нтрас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штет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и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Picture 2" descr=""/>
          <p:cNvPicPr/>
          <p:nvPr/>
        </p:nvPicPr>
        <p:blipFill>
          <a:blip r:embed="rId1"/>
          <a:stretch/>
        </p:blipFill>
        <p:spPr>
          <a:xfrm>
            <a:off x="5940360" y="5300640"/>
            <a:ext cx="133200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радевинск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атеријал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згр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абирањ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олош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ихватљивијих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чин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колошки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рактеристик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драв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атеријал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рушава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живот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редин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ом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ољан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нергетск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илан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митују никакв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штетн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рачењ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уду веома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рајни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it-IT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треби мењају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7380360" y="3068640"/>
            <a:ext cx="14954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”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 Sick building s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ndrome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i="1" lang="sr-CS" sz="4000" spc="-1" strike="noStrike">
                <a:solidFill>
                  <a:srgbClr val="000000"/>
                </a:solidFill>
                <a:latin typeface="Calibri"/>
              </a:rPr>
              <a:t>SBS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)-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рупа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мптома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познатог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рекла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 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ављај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уже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оравк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творено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сториј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ућ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д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ест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школ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олниц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984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ск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дравствен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рганизац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јавил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SB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SBS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главн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везан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лоши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валитет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творени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сторија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нгл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indoor air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q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ualit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руги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ермин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ету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SBS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Building related illnesses associated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 w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ith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mould e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sr-CS" sz="2700" spc="-1" strike="noStrike">
                <a:solidFill>
                  <a:srgbClr val="000000"/>
                </a:solidFill>
                <a:latin typeface="Calibri"/>
              </a:rPr>
              <a:t>posu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7242120" y="2571840"/>
            <a:ext cx="18576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55640" y="549360"/>
            <a:ext cx="8001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а. Бука природних из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родни извори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грмљавина, завијање ветра и д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) могу да изазову веома јаку и непријатну буку, али се све мање сматрају узроцима оштећења здравља љу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б. Бука онога што је човек створи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Разликује се у односу на место на којем делује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nl-NL" sz="2000" spc="-1" strike="noStrike">
                <a:solidFill>
                  <a:srgbClr val="000000"/>
                </a:solidFill>
                <a:latin typeface="Times New Roman"/>
              </a:rPr>
              <a:t>Буку у радној средини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 је сваки звук створен радом машине, алата и/или уређаја у производњи (бука оруђа на радном месту, оруђа са других радних места, непроизводних извора: саобраћај, вентилација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i="1" lang="nl-NL" sz="2000" spc="-1" strike="noStrike">
                <a:solidFill>
                  <a:srgbClr val="000000"/>
                </a:solidFill>
                <a:latin typeface="Times New Roman"/>
              </a:rPr>
              <a:t>Буку у животној средини</a:t>
            </a: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 је сваки звук који настаје ван радног места, што значи у становима, на улици, на местима за рекреацију, у школама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 txBox="1"/>
          <p:nvPr/>
        </p:nvSpPr>
        <p:spPr>
          <a:xfrm>
            <a:off x="45720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интетичк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золациј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лима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ређаји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ентилацион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исте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Недостатак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свежег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Д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спаравањ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бој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рињ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епис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апе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ућн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љубимц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оксич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хемикалиј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чишћењ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иродн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а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рађевински</a:t>
            </a:r>
            <a:r>
              <a:rPr b="0" lang="vi-V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атеријал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бактериј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WC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шољ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купатило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зидов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рамови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розор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Токсичн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бо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гље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оноксид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уља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асови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it-I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утомобил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1" name="Picture 3" descr=""/>
          <p:cNvPicPr/>
          <p:nvPr/>
        </p:nvPicPr>
        <p:blipFill>
          <a:blip r:embed="rId1"/>
          <a:stretch/>
        </p:blipFill>
        <p:spPr>
          <a:xfrm>
            <a:off x="5500800" y="285840"/>
            <a:ext cx="33382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1643040" y="1214280"/>
            <a:ext cx="5929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зграда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бити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болесна</a:t>
            </a:r>
            <a:r>
              <a:rPr b="1" lang="it-IT" sz="4000" spc="-1" strike="noStrike">
                <a:solidFill>
                  <a:srgbClr val="000000"/>
                </a:solidFill>
                <a:latin typeface="Calibri"/>
              </a:rPr>
              <a:t>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роблем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јављај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везаност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боравком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дређеној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гради</a:t>
            </a:r>
            <a:r>
              <a:rPr b="0" lang="vi-VN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Због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неприкладно</a:t>
            </a: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грађене</a:t>
            </a: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неадекватно-лоше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одржаване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осебан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проблем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ловне зград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вој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творен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"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микроклимом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Узроц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ису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грађеви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рхитектонс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астају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ших</a:t>
            </a:r>
            <a:r>
              <a:rPr b="0" lang="sv-SE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ергономски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поставк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ст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лош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организације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pl-PL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Штетни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фактори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згра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Физичк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лош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валите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светљенос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ук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лагањ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тпад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 снабдевањ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валитетно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ијаћо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водо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Хемијск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вишен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онцентрациј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угљен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диоксид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ој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тепис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завес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риродних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материјал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задржавањ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алерген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формалдехид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рад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фотокопирни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апарат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иолошк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микроорганизм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рек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лош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ржаваних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лим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уређај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.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зазивањ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заразних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шт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Легионарск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олес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узрочник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актериј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Legionella pneumophil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в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микроорганизм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годују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развоју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алергијских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реакциј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сихолошк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утицај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"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менталн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клоп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јизразитиј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глед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главобољ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раздражљивос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умор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мањен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родуктивнос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езвољност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в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ремећај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раз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деловањ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вих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ре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бројаних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фактор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јер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тел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сих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чврсто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овезани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Леч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лањ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мање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гоб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послен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олесно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град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стић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ече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гоб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ћ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омено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ази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гоб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ило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ресељење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друг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зград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побољшањем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слов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болесно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слов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прави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обољш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валите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аздух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вођењем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иродн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валитетније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ветљености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збацивањ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онско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тл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мање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ук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лагање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пад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авилном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схраном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дника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сигурањем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годн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радне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тмосфер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уклања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штетн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хемијских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акто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државање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ве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о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шл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микробиолошко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загађења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9" name="Picture 2" descr=""/>
          <p:cNvPicPr/>
          <p:nvPr/>
        </p:nvPicPr>
        <p:blipFill>
          <a:blip r:embed="rId1"/>
          <a:stretch/>
        </p:blipFill>
        <p:spPr>
          <a:xfrm>
            <a:off x="2071800" y="0"/>
            <a:ext cx="1000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Превенц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пречи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вилн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јектовање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зградњ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државање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словн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амбених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града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сто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едовним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стематским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егледи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в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апослен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очил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пидемиј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ов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ндром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ак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хит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и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ртонос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та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индром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болесн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град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мању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валите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човеков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живот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дугорочн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узрокуј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нат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губитк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дник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слодавцу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због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смањене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одуктивност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оштова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ергономск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авила</a:t>
            </a: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раду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такође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неопходно</a:t>
            </a:r>
            <a:r>
              <a:rPr b="0" lang="pl-PL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1"/>
          <a:stretch/>
        </p:blipFill>
        <p:spPr>
          <a:xfrm>
            <a:off x="4143240" y="0"/>
            <a:ext cx="18529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762120" y="7272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РСТЕ БУКЕ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трајању у време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62120" y="1752480"/>
            <a:ext cx="8381880" cy="49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трајању у времену разликујемо пет врста бу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тална (континуирана) б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Променљива (дисконтинуирана) б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Импулсивна бук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</a:rPr>
              <a:t>Бука са тон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da-DK" sz="2800" spc="-1" strike="noStrike">
                <a:solidFill>
                  <a:srgbClr val="000000"/>
                </a:solidFill>
                <a:latin typeface="Times New Roman"/>
              </a:rPr>
              <a:t>Испрекидана бука (појединачни звуци или шумо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179280" y="115920"/>
            <a:ext cx="8535960" cy="63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Стална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континуиран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 бук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 бука чији се ниво мења у границама од највише 5 дБ(А), при чему се за измерени ниво буке узима просечни ниво у току мерног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Променљива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дисконтинуирана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) бу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 бука чији се ниво непрекидно мења у границама већим од 5дБ(А), а не подлеже дефиницији испрекидане бу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Импулсивна бу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је бука која садржи чујне импулсе краће од 1 секунде, који се јављају појединачно или брзо следе један за другим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може бити сталног или променљивог ниво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тоновима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ја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адржи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чујне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онске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мпоненте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</a:rPr>
              <a:t>Испрекидана бука (</a:t>
            </a:r>
            <a:r>
              <a:rPr b="0" i="1" lang="da-DK" sz="2400" spc="-1" strike="noStrike">
                <a:solidFill>
                  <a:srgbClr val="000000"/>
                </a:solidFill>
                <a:latin typeface="Times New Roman"/>
              </a:rPr>
              <a:t>појединачни звуци или шумови</a:t>
            </a:r>
            <a:r>
              <a:rPr b="1" i="1" lang="da-DK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је бука чији ниво повремено нагло пада на ниво буке околине, при чему је трајање ове буке између прекида веће од 1 секун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762120" y="727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ТИЦАЈ БУКЕ НА Ч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826920" y="2168640"/>
            <a:ext cx="7490160" cy="47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ука може делова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1. Поврем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вај утицај најчешће узрокује физиолошке реакције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рганизма, осим ако је реч о буци врло велике јач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2. Стал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ва бука може првобитне физиолошке реакције да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твори у трајне патолошке промене које временом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предуј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 правилу и почетном стадијуму промене су лаке, једва приметне, губе се после престанка деловања буке и не скрећу пажњу на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762120" y="727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ТИЦАЈ БУКЕ НА Ч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62120" y="2116080"/>
            <a:ext cx="80010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ема утицају на људски организам бука се најчешће класификује на звук који изази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аурикуларн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Ван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екстрааурикуларн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85800" y="2146320"/>
            <a:ext cx="7620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ка је сваки нежељени зв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аки звук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галама, говор, лупа и др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који омета рад или одмор довољно је јак, издваја се од осталих звукова и добро се чује, је бу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уку могу да чине и тихи звуци под одређеним условим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разговор гледалаца у позоришној сали за време представ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85800" y="716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762120" y="7272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ТИЦАЈ БУКЕ НА Ч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250920" y="1700280"/>
            <a:ext cx="8641800" cy="4755600"/>
            <a:chOff x="250920" y="1700280"/>
            <a:chExt cx="8641800" cy="4755600"/>
          </a:xfrm>
        </p:grpSpPr>
        <p:sp>
          <p:nvSpPr>
            <p:cNvPr id="75" name="Freeform 4"/>
            <p:cNvSpPr/>
            <p:nvPr/>
          </p:nvSpPr>
          <p:spPr>
            <a:xfrm>
              <a:off x="3681000" y="1724400"/>
              <a:ext cx="2031480" cy="4731480"/>
            </a:xfrm>
            <a:prstGeom prst="pie">
              <a:avLst/>
            </a:prstGeom>
            <a:solidFill>
              <a:srgbClr val="eeece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5"/>
            <p:cNvSpPr/>
            <p:nvPr/>
          </p:nvSpPr>
          <p:spPr>
            <a:xfrm>
              <a:off x="6258240" y="2667960"/>
              <a:ext cx="26344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l-SI" sz="1800" spc="-1" strike="noStrike">
                  <a:solidFill>
                    <a:srgbClr val="000000"/>
                  </a:solidFill>
                  <a:latin typeface="Times New Roman"/>
                </a:rPr>
                <a:t>КАРДИВАСКУЛАРНИ ПОРЕМЕЋАЈ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4473720" y="3400200"/>
              <a:ext cx="3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5113080" y="2746440"/>
              <a:ext cx="3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5045040" y="3111840"/>
              <a:ext cx="14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4818240" y="2621880"/>
              <a:ext cx="3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0"/>
            <p:cNvSpPr/>
            <p:nvPr/>
          </p:nvSpPr>
          <p:spPr>
            <a:xfrm>
              <a:off x="4473720" y="3233520"/>
              <a:ext cx="360" cy="44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1"/>
            <p:cNvSpPr/>
            <p:nvPr/>
          </p:nvSpPr>
          <p:spPr>
            <a:xfrm>
              <a:off x="4473720" y="3218400"/>
              <a:ext cx="360" cy="288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2"/>
            <p:cNvSpPr/>
            <p:nvPr/>
          </p:nvSpPr>
          <p:spPr>
            <a:xfrm>
              <a:off x="4426200" y="6283440"/>
              <a:ext cx="14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3"/>
            <p:cNvSpPr/>
            <p:nvPr/>
          </p:nvSpPr>
          <p:spPr>
            <a:xfrm>
              <a:off x="4486320" y="6191280"/>
              <a:ext cx="18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4"/>
            <p:cNvSpPr/>
            <p:nvPr/>
          </p:nvSpPr>
          <p:spPr>
            <a:xfrm>
              <a:off x="4486320" y="6092640"/>
              <a:ext cx="3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5"/>
            <p:cNvSpPr/>
            <p:nvPr/>
          </p:nvSpPr>
          <p:spPr>
            <a:xfrm>
              <a:off x="4472280" y="6225120"/>
              <a:ext cx="48960" cy="860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6"/>
            <p:cNvSpPr/>
            <p:nvPr/>
          </p:nvSpPr>
          <p:spPr>
            <a:xfrm>
              <a:off x="4448160" y="6297480"/>
              <a:ext cx="42840" cy="39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7"/>
            <p:cNvSpPr/>
            <p:nvPr/>
          </p:nvSpPr>
          <p:spPr>
            <a:xfrm>
              <a:off x="4239360" y="2996280"/>
              <a:ext cx="132120" cy="614520"/>
            </a:xfrm>
            <a:prstGeom prst="pie">
              <a:avLst/>
            </a:prstGeom>
            <a:solidFill>
              <a:srgbClr val="eeece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8"/>
            <p:cNvSpPr/>
            <p:nvPr/>
          </p:nvSpPr>
          <p:spPr>
            <a:xfrm>
              <a:off x="5045040" y="2968560"/>
              <a:ext cx="132120" cy="593280"/>
            </a:xfrm>
            <a:prstGeom prst="pie">
              <a:avLst/>
            </a:prstGeom>
            <a:solidFill>
              <a:srgbClr val="eeece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9"/>
            <p:cNvSpPr/>
            <p:nvPr/>
          </p:nvSpPr>
          <p:spPr>
            <a:xfrm>
              <a:off x="4196520" y="2939040"/>
              <a:ext cx="149400" cy="506880"/>
            </a:xfrm>
            <a:prstGeom prst="pie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0"/>
            <p:cNvSpPr/>
            <p:nvPr/>
          </p:nvSpPr>
          <p:spPr>
            <a:xfrm>
              <a:off x="5078160" y="2934360"/>
              <a:ext cx="147960" cy="543960"/>
            </a:xfrm>
            <a:prstGeom prst="pie">
              <a:avLst/>
            </a:prstGeom>
            <a:solidFill>
              <a:srgbClr val="eeec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"/>
            <p:cNvSpPr/>
            <p:nvPr/>
          </p:nvSpPr>
          <p:spPr>
            <a:xfrm>
              <a:off x="4563000" y="41565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2"/>
            <p:cNvSpPr/>
            <p:nvPr/>
          </p:nvSpPr>
          <p:spPr>
            <a:xfrm>
              <a:off x="4550400" y="1775520"/>
              <a:ext cx="328320" cy="2062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3"/>
            <p:cNvSpPr/>
            <p:nvPr/>
          </p:nvSpPr>
          <p:spPr>
            <a:xfrm>
              <a:off x="4548600" y="1786320"/>
              <a:ext cx="116280" cy="1461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4"/>
            <p:cNvSpPr/>
            <p:nvPr/>
          </p:nvSpPr>
          <p:spPr>
            <a:xfrm>
              <a:off x="4866120" y="2001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5"/>
            <p:cNvSpPr/>
            <p:nvPr/>
          </p:nvSpPr>
          <p:spPr>
            <a:xfrm>
              <a:off x="4395600" y="2530800"/>
              <a:ext cx="258120" cy="55296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6"/>
            <p:cNvSpPr/>
            <p:nvPr/>
          </p:nvSpPr>
          <p:spPr>
            <a:xfrm>
              <a:off x="4395600" y="2530800"/>
              <a:ext cx="258120" cy="55296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7"/>
            <p:cNvSpPr/>
            <p:nvPr/>
          </p:nvSpPr>
          <p:spPr>
            <a:xfrm>
              <a:off x="4394160" y="30747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8"/>
            <p:cNvSpPr/>
            <p:nvPr/>
          </p:nvSpPr>
          <p:spPr>
            <a:xfrm>
              <a:off x="4397040" y="3005640"/>
              <a:ext cx="23760" cy="644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9"/>
            <p:cNvSpPr/>
            <p:nvPr/>
          </p:nvSpPr>
          <p:spPr>
            <a:xfrm>
              <a:off x="4406760" y="2530800"/>
              <a:ext cx="202320" cy="429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30"/>
            <p:cNvSpPr/>
            <p:nvPr/>
          </p:nvSpPr>
          <p:spPr>
            <a:xfrm>
              <a:off x="4629960" y="2529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31"/>
            <p:cNvSpPr/>
            <p:nvPr/>
          </p:nvSpPr>
          <p:spPr>
            <a:xfrm>
              <a:off x="4669920" y="259704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2"/>
            <p:cNvSpPr/>
            <p:nvPr/>
          </p:nvSpPr>
          <p:spPr>
            <a:xfrm>
              <a:off x="4757760" y="2524680"/>
              <a:ext cx="259920" cy="55152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33"/>
            <p:cNvSpPr/>
            <p:nvPr/>
          </p:nvSpPr>
          <p:spPr>
            <a:xfrm>
              <a:off x="4757760" y="2524680"/>
              <a:ext cx="259920" cy="55152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34"/>
            <p:cNvSpPr/>
            <p:nvPr/>
          </p:nvSpPr>
          <p:spPr>
            <a:xfrm>
              <a:off x="4773600" y="2523240"/>
              <a:ext cx="30240" cy="691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5"/>
            <p:cNvSpPr/>
            <p:nvPr/>
          </p:nvSpPr>
          <p:spPr>
            <a:xfrm>
              <a:off x="4803840" y="2523240"/>
              <a:ext cx="219600" cy="4885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6"/>
            <p:cNvSpPr/>
            <p:nvPr/>
          </p:nvSpPr>
          <p:spPr>
            <a:xfrm>
              <a:off x="5045040" y="30643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37"/>
            <p:cNvSpPr/>
            <p:nvPr/>
          </p:nvSpPr>
          <p:spPr>
            <a:xfrm>
              <a:off x="5045040" y="30657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8"/>
            <p:cNvSpPr/>
            <p:nvPr/>
          </p:nvSpPr>
          <p:spPr>
            <a:xfrm>
              <a:off x="5045040" y="3101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9"/>
            <p:cNvSpPr/>
            <p:nvPr/>
          </p:nvSpPr>
          <p:spPr>
            <a:xfrm>
              <a:off x="5001840" y="31348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0"/>
            <p:cNvSpPr/>
            <p:nvPr/>
          </p:nvSpPr>
          <p:spPr>
            <a:xfrm>
              <a:off x="4993920" y="31348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1"/>
            <p:cNvSpPr/>
            <p:nvPr/>
          </p:nvSpPr>
          <p:spPr>
            <a:xfrm>
              <a:off x="4756320" y="3008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2"/>
            <p:cNvSpPr/>
            <p:nvPr/>
          </p:nvSpPr>
          <p:spPr>
            <a:xfrm>
              <a:off x="4756320" y="2598480"/>
              <a:ext cx="23760" cy="3697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3"/>
            <p:cNvSpPr/>
            <p:nvPr/>
          </p:nvSpPr>
          <p:spPr>
            <a:xfrm>
              <a:off x="4650480" y="2572560"/>
              <a:ext cx="264600" cy="38808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>
              <a:off x="4650480" y="2572560"/>
              <a:ext cx="264600" cy="3880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5"/>
            <p:cNvSpPr/>
            <p:nvPr/>
          </p:nvSpPr>
          <p:spPr>
            <a:xfrm>
              <a:off x="4650480" y="2678760"/>
              <a:ext cx="24120" cy="1155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6"/>
            <p:cNvSpPr/>
            <p:nvPr/>
          </p:nvSpPr>
          <p:spPr>
            <a:xfrm>
              <a:off x="4673160" y="2675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7"/>
            <p:cNvSpPr/>
            <p:nvPr/>
          </p:nvSpPr>
          <p:spPr>
            <a:xfrm>
              <a:off x="4673160" y="2675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8"/>
            <p:cNvSpPr/>
            <p:nvPr/>
          </p:nvSpPr>
          <p:spPr>
            <a:xfrm>
              <a:off x="4660560" y="2641680"/>
              <a:ext cx="23760" cy="324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9"/>
            <p:cNvSpPr/>
            <p:nvPr/>
          </p:nvSpPr>
          <p:spPr>
            <a:xfrm>
              <a:off x="4660560" y="26326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50"/>
            <p:cNvSpPr/>
            <p:nvPr/>
          </p:nvSpPr>
          <p:spPr>
            <a:xfrm>
              <a:off x="4660560" y="2628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51"/>
            <p:cNvSpPr/>
            <p:nvPr/>
          </p:nvSpPr>
          <p:spPr>
            <a:xfrm>
              <a:off x="4660560" y="2622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52"/>
            <p:cNvSpPr/>
            <p:nvPr/>
          </p:nvSpPr>
          <p:spPr>
            <a:xfrm>
              <a:off x="4660560" y="2622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53"/>
            <p:cNvSpPr/>
            <p:nvPr/>
          </p:nvSpPr>
          <p:spPr>
            <a:xfrm>
              <a:off x="4660560" y="26218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54"/>
            <p:cNvSpPr/>
            <p:nvPr/>
          </p:nvSpPr>
          <p:spPr>
            <a:xfrm>
              <a:off x="4660560" y="2603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5"/>
            <p:cNvSpPr/>
            <p:nvPr/>
          </p:nvSpPr>
          <p:spPr>
            <a:xfrm>
              <a:off x="4676400" y="2603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56"/>
            <p:cNvSpPr/>
            <p:nvPr/>
          </p:nvSpPr>
          <p:spPr>
            <a:xfrm>
              <a:off x="4690800" y="2606400"/>
              <a:ext cx="252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57"/>
            <p:cNvSpPr/>
            <p:nvPr/>
          </p:nvSpPr>
          <p:spPr>
            <a:xfrm>
              <a:off x="4704840" y="262296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58"/>
            <p:cNvSpPr/>
            <p:nvPr/>
          </p:nvSpPr>
          <p:spPr>
            <a:xfrm>
              <a:off x="4704840" y="263700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59"/>
            <p:cNvSpPr/>
            <p:nvPr/>
          </p:nvSpPr>
          <p:spPr>
            <a:xfrm>
              <a:off x="4704840" y="26434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60"/>
            <p:cNvSpPr/>
            <p:nvPr/>
          </p:nvSpPr>
          <p:spPr>
            <a:xfrm>
              <a:off x="4706640" y="2667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61"/>
            <p:cNvSpPr/>
            <p:nvPr/>
          </p:nvSpPr>
          <p:spPr>
            <a:xfrm>
              <a:off x="4706640" y="26697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2"/>
            <p:cNvSpPr/>
            <p:nvPr/>
          </p:nvSpPr>
          <p:spPr>
            <a:xfrm>
              <a:off x="4708080" y="267876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63"/>
            <p:cNvSpPr/>
            <p:nvPr/>
          </p:nvSpPr>
          <p:spPr>
            <a:xfrm>
              <a:off x="4818240" y="261864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64"/>
            <p:cNvSpPr/>
            <p:nvPr/>
          </p:nvSpPr>
          <p:spPr>
            <a:xfrm>
              <a:off x="4818240" y="26218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5"/>
            <p:cNvSpPr/>
            <p:nvPr/>
          </p:nvSpPr>
          <p:spPr>
            <a:xfrm>
              <a:off x="4812120" y="2657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66"/>
            <p:cNvSpPr/>
            <p:nvPr/>
          </p:nvSpPr>
          <p:spPr>
            <a:xfrm>
              <a:off x="4813560" y="2667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67"/>
            <p:cNvSpPr/>
            <p:nvPr/>
          </p:nvSpPr>
          <p:spPr>
            <a:xfrm>
              <a:off x="4815360" y="2667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68"/>
            <p:cNvSpPr/>
            <p:nvPr/>
          </p:nvSpPr>
          <p:spPr>
            <a:xfrm>
              <a:off x="4942440" y="28450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69"/>
            <p:cNvSpPr/>
            <p:nvPr/>
          </p:nvSpPr>
          <p:spPr>
            <a:xfrm>
              <a:off x="4902840" y="2999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70"/>
            <p:cNvSpPr/>
            <p:nvPr/>
          </p:nvSpPr>
          <p:spPr>
            <a:xfrm>
              <a:off x="4472280" y="3047040"/>
              <a:ext cx="401760" cy="22788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71"/>
            <p:cNvSpPr/>
            <p:nvPr/>
          </p:nvSpPr>
          <p:spPr>
            <a:xfrm>
              <a:off x="4472280" y="3047040"/>
              <a:ext cx="401760" cy="2278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72"/>
            <p:cNvSpPr/>
            <p:nvPr/>
          </p:nvSpPr>
          <p:spPr>
            <a:xfrm>
              <a:off x="4472280" y="3188880"/>
              <a:ext cx="23760" cy="273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73"/>
            <p:cNvSpPr/>
            <p:nvPr/>
          </p:nvSpPr>
          <p:spPr>
            <a:xfrm>
              <a:off x="4472280" y="31762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74"/>
            <p:cNvSpPr/>
            <p:nvPr/>
          </p:nvSpPr>
          <p:spPr>
            <a:xfrm>
              <a:off x="4472280" y="31582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75"/>
            <p:cNvSpPr/>
            <p:nvPr/>
          </p:nvSpPr>
          <p:spPr>
            <a:xfrm>
              <a:off x="4472280" y="31518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76"/>
            <p:cNvSpPr/>
            <p:nvPr/>
          </p:nvSpPr>
          <p:spPr>
            <a:xfrm>
              <a:off x="4470480" y="3047040"/>
              <a:ext cx="86040" cy="954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77"/>
            <p:cNvSpPr/>
            <p:nvPr/>
          </p:nvSpPr>
          <p:spPr>
            <a:xfrm>
              <a:off x="4564440" y="30456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78"/>
            <p:cNvSpPr/>
            <p:nvPr/>
          </p:nvSpPr>
          <p:spPr>
            <a:xfrm>
              <a:off x="4563000" y="3045600"/>
              <a:ext cx="17208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9"/>
            <p:cNvSpPr/>
            <p:nvPr/>
          </p:nvSpPr>
          <p:spPr>
            <a:xfrm>
              <a:off x="4734000" y="3064320"/>
              <a:ext cx="33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80"/>
            <p:cNvSpPr/>
            <p:nvPr/>
          </p:nvSpPr>
          <p:spPr>
            <a:xfrm>
              <a:off x="4770360" y="3065760"/>
              <a:ext cx="3348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81"/>
            <p:cNvSpPr/>
            <p:nvPr/>
          </p:nvSpPr>
          <p:spPr>
            <a:xfrm>
              <a:off x="4791240" y="3065760"/>
              <a:ext cx="266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82"/>
            <p:cNvSpPr/>
            <p:nvPr/>
          </p:nvSpPr>
          <p:spPr>
            <a:xfrm>
              <a:off x="4820040" y="30657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83"/>
            <p:cNvSpPr/>
            <p:nvPr/>
          </p:nvSpPr>
          <p:spPr>
            <a:xfrm>
              <a:off x="4821480" y="3065760"/>
              <a:ext cx="349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84"/>
            <p:cNvSpPr/>
            <p:nvPr/>
          </p:nvSpPr>
          <p:spPr>
            <a:xfrm>
              <a:off x="4856400" y="306684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85"/>
            <p:cNvSpPr/>
            <p:nvPr/>
          </p:nvSpPr>
          <p:spPr>
            <a:xfrm>
              <a:off x="4536000" y="32983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86"/>
            <p:cNvSpPr/>
            <p:nvPr/>
          </p:nvSpPr>
          <p:spPr>
            <a:xfrm>
              <a:off x="4473720" y="3281400"/>
              <a:ext cx="633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87"/>
            <p:cNvSpPr/>
            <p:nvPr/>
          </p:nvSpPr>
          <p:spPr>
            <a:xfrm>
              <a:off x="5177160" y="2891520"/>
              <a:ext cx="14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88"/>
            <p:cNvSpPr/>
            <p:nvPr/>
          </p:nvSpPr>
          <p:spPr>
            <a:xfrm>
              <a:off x="5177160" y="2897640"/>
              <a:ext cx="14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9"/>
            <p:cNvSpPr/>
            <p:nvPr/>
          </p:nvSpPr>
          <p:spPr>
            <a:xfrm>
              <a:off x="4497840" y="3265920"/>
              <a:ext cx="146520" cy="24804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0"/>
            <p:cNvSpPr/>
            <p:nvPr/>
          </p:nvSpPr>
          <p:spPr>
            <a:xfrm>
              <a:off x="4497840" y="3265920"/>
              <a:ext cx="146520" cy="24804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1"/>
            <p:cNvSpPr/>
            <p:nvPr/>
          </p:nvSpPr>
          <p:spPr>
            <a:xfrm>
              <a:off x="4497840" y="3415320"/>
              <a:ext cx="38160" cy="907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92"/>
            <p:cNvSpPr/>
            <p:nvPr/>
          </p:nvSpPr>
          <p:spPr>
            <a:xfrm>
              <a:off x="4496400" y="3411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93"/>
            <p:cNvSpPr/>
            <p:nvPr/>
          </p:nvSpPr>
          <p:spPr>
            <a:xfrm>
              <a:off x="4496400" y="3265920"/>
              <a:ext cx="97200" cy="147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94"/>
            <p:cNvSpPr/>
            <p:nvPr/>
          </p:nvSpPr>
          <p:spPr>
            <a:xfrm>
              <a:off x="4601520" y="3265920"/>
              <a:ext cx="54000" cy="432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5"/>
            <p:cNvSpPr/>
            <p:nvPr/>
          </p:nvSpPr>
          <p:spPr>
            <a:xfrm>
              <a:off x="4631760" y="3301560"/>
              <a:ext cx="27000" cy="522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96"/>
            <p:cNvSpPr/>
            <p:nvPr/>
          </p:nvSpPr>
          <p:spPr>
            <a:xfrm>
              <a:off x="4604760" y="3356640"/>
              <a:ext cx="23760" cy="33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7"/>
            <p:cNvSpPr/>
            <p:nvPr/>
          </p:nvSpPr>
          <p:spPr>
            <a:xfrm>
              <a:off x="4604760" y="3392280"/>
              <a:ext cx="23760" cy="42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98"/>
            <p:cNvSpPr/>
            <p:nvPr/>
          </p:nvSpPr>
          <p:spPr>
            <a:xfrm>
              <a:off x="4620600" y="34372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9"/>
            <p:cNvSpPr/>
            <p:nvPr/>
          </p:nvSpPr>
          <p:spPr>
            <a:xfrm>
              <a:off x="4623840" y="3441600"/>
              <a:ext cx="28440" cy="522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00"/>
            <p:cNvSpPr/>
            <p:nvPr/>
          </p:nvSpPr>
          <p:spPr>
            <a:xfrm>
              <a:off x="4654080" y="34984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01"/>
            <p:cNvSpPr/>
            <p:nvPr/>
          </p:nvSpPr>
          <p:spPr>
            <a:xfrm>
              <a:off x="4618800" y="35402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02"/>
            <p:cNvSpPr/>
            <p:nvPr/>
          </p:nvSpPr>
          <p:spPr>
            <a:xfrm>
              <a:off x="4708080" y="3256920"/>
              <a:ext cx="266400" cy="12600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3"/>
            <p:cNvSpPr/>
            <p:nvPr/>
          </p:nvSpPr>
          <p:spPr>
            <a:xfrm>
              <a:off x="4708080" y="3256920"/>
              <a:ext cx="266400" cy="12600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4"/>
            <p:cNvSpPr/>
            <p:nvPr/>
          </p:nvSpPr>
          <p:spPr>
            <a:xfrm>
              <a:off x="4734000" y="3389400"/>
              <a:ext cx="33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05"/>
            <p:cNvSpPr/>
            <p:nvPr/>
          </p:nvSpPr>
          <p:spPr>
            <a:xfrm>
              <a:off x="4734000" y="33894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06"/>
            <p:cNvSpPr/>
            <p:nvPr/>
          </p:nvSpPr>
          <p:spPr>
            <a:xfrm>
              <a:off x="4732200" y="338940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07"/>
            <p:cNvSpPr/>
            <p:nvPr/>
          </p:nvSpPr>
          <p:spPr>
            <a:xfrm>
              <a:off x="4708080" y="33645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08"/>
            <p:cNvSpPr/>
            <p:nvPr/>
          </p:nvSpPr>
          <p:spPr>
            <a:xfrm>
              <a:off x="4708080" y="33616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9"/>
            <p:cNvSpPr/>
            <p:nvPr/>
          </p:nvSpPr>
          <p:spPr>
            <a:xfrm>
              <a:off x="4708080" y="33616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10"/>
            <p:cNvSpPr/>
            <p:nvPr/>
          </p:nvSpPr>
          <p:spPr>
            <a:xfrm>
              <a:off x="4706640" y="3265920"/>
              <a:ext cx="50760" cy="87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11"/>
            <p:cNvSpPr/>
            <p:nvPr/>
          </p:nvSpPr>
          <p:spPr>
            <a:xfrm>
              <a:off x="4757760" y="32659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12"/>
            <p:cNvSpPr/>
            <p:nvPr/>
          </p:nvSpPr>
          <p:spPr>
            <a:xfrm>
              <a:off x="4761000" y="32659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13"/>
            <p:cNvSpPr/>
            <p:nvPr/>
          </p:nvSpPr>
          <p:spPr>
            <a:xfrm>
              <a:off x="4764240" y="32644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4"/>
            <p:cNvSpPr/>
            <p:nvPr/>
          </p:nvSpPr>
          <p:spPr>
            <a:xfrm>
              <a:off x="4757760" y="3256920"/>
              <a:ext cx="22464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5"/>
            <p:cNvSpPr/>
            <p:nvPr/>
          </p:nvSpPr>
          <p:spPr>
            <a:xfrm>
              <a:off x="4988880" y="3279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6"/>
            <p:cNvSpPr/>
            <p:nvPr/>
          </p:nvSpPr>
          <p:spPr>
            <a:xfrm>
              <a:off x="4988880" y="32799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17"/>
            <p:cNvSpPr/>
            <p:nvPr/>
          </p:nvSpPr>
          <p:spPr>
            <a:xfrm>
              <a:off x="4928400" y="3279960"/>
              <a:ext cx="619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18"/>
            <p:cNvSpPr/>
            <p:nvPr/>
          </p:nvSpPr>
          <p:spPr>
            <a:xfrm>
              <a:off x="4826520" y="3288960"/>
              <a:ext cx="95400" cy="48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9"/>
            <p:cNvSpPr/>
            <p:nvPr/>
          </p:nvSpPr>
          <p:spPr>
            <a:xfrm>
              <a:off x="4823280" y="3341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20"/>
            <p:cNvSpPr/>
            <p:nvPr/>
          </p:nvSpPr>
          <p:spPr>
            <a:xfrm>
              <a:off x="4768920" y="3341520"/>
              <a:ext cx="55440" cy="48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21"/>
            <p:cNvSpPr/>
            <p:nvPr/>
          </p:nvSpPr>
          <p:spPr>
            <a:xfrm>
              <a:off x="4768920" y="33937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22"/>
            <p:cNvSpPr/>
            <p:nvPr/>
          </p:nvSpPr>
          <p:spPr>
            <a:xfrm>
              <a:off x="4767120" y="339552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23"/>
            <p:cNvSpPr/>
            <p:nvPr/>
          </p:nvSpPr>
          <p:spPr>
            <a:xfrm>
              <a:off x="4881960" y="3278160"/>
              <a:ext cx="130320" cy="237600"/>
            </a:xfrm>
            <a:prstGeom prst="pie">
              <a:avLst/>
            </a:pr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24"/>
            <p:cNvSpPr/>
            <p:nvPr/>
          </p:nvSpPr>
          <p:spPr>
            <a:xfrm>
              <a:off x="4881960" y="3278160"/>
              <a:ext cx="130320" cy="23760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25"/>
            <p:cNvSpPr/>
            <p:nvPr/>
          </p:nvSpPr>
          <p:spPr>
            <a:xfrm>
              <a:off x="4886640" y="3503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26"/>
            <p:cNvSpPr/>
            <p:nvPr/>
          </p:nvSpPr>
          <p:spPr>
            <a:xfrm>
              <a:off x="4888800" y="3497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7"/>
            <p:cNvSpPr/>
            <p:nvPr/>
          </p:nvSpPr>
          <p:spPr>
            <a:xfrm>
              <a:off x="4888800" y="3453840"/>
              <a:ext cx="23760" cy="460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28"/>
            <p:cNvSpPr/>
            <p:nvPr/>
          </p:nvSpPr>
          <p:spPr>
            <a:xfrm>
              <a:off x="4902840" y="34506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9"/>
            <p:cNvSpPr/>
            <p:nvPr/>
          </p:nvSpPr>
          <p:spPr>
            <a:xfrm>
              <a:off x="4902840" y="34506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30"/>
            <p:cNvSpPr/>
            <p:nvPr/>
          </p:nvSpPr>
          <p:spPr>
            <a:xfrm>
              <a:off x="4904640" y="3407760"/>
              <a:ext cx="23760" cy="39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31"/>
            <p:cNvSpPr/>
            <p:nvPr/>
          </p:nvSpPr>
          <p:spPr>
            <a:xfrm>
              <a:off x="4920480" y="34002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32"/>
            <p:cNvSpPr/>
            <p:nvPr/>
          </p:nvSpPr>
          <p:spPr>
            <a:xfrm>
              <a:off x="4881960" y="3327840"/>
              <a:ext cx="38160" cy="658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33"/>
            <p:cNvSpPr/>
            <p:nvPr/>
          </p:nvSpPr>
          <p:spPr>
            <a:xfrm>
              <a:off x="4881960" y="3278160"/>
              <a:ext cx="95400" cy="493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4"/>
            <p:cNvSpPr/>
            <p:nvPr/>
          </p:nvSpPr>
          <p:spPr>
            <a:xfrm>
              <a:off x="4986000" y="3278160"/>
              <a:ext cx="252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35"/>
            <p:cNvSpPr/>
            <p:nvPr/>
          </p:nvSpPr>
          <p:spPr>
            <a:xfrm>
              <a:off x="4992120" y="3296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36"/>
            <p:cNvSpPr/>
            <p:nvPr/>
          </p:nvSpPr>
          <p:spPr>
            <a:xfrm>
              <a:off x="5000040" y="3307320"/>
              <a:ext cx="23760" cy="662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37"/>
            <p:cNvSpPr/>
            <p:nvPr/>
          </p:nvSpPr>
          <p:spPr>
            <a:xfrm>
              <a:off x="5025600" y="33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8"/>
            <p:cNvSpPr/>
            <p:nvPr/>
          </p:nvSpPr>
          <p:spPr>
            <a:xfrm>
              <a:off x="4934520" y="3404520"/>
              <a:ext cx="84600" cy="1231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9"/>
            <p:cNvSpPr/>
            <p:nvPr/>
          </p:nvSpPr>
          <p:spPr>
            <a:xfrm>
              <a:off x="4929840" y="35388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0"/>
            <p:cNvSpPr/>
            <p:nvPr/>
          </p:nvSpPr>
          <p:spPr>
            <a:xfrm>
              <a:off x="4929840" y="35388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41"/>
            <p:cNvSpPr/>
            <p:nvPr/>
          </p:nvSpPr>
          <p:spPr>
            <a:xfrm>
              <a:off x="4931640" y="35402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42"/>
            <p:cNvSpPr/>
            <p:nvPr/>
          </p:nvSpPr>
          <p:spPr>
            <a:xfrm>
              <a:off x="4404960" y="3961080"/>
              <a:ext cx="162720" cy="4096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43"/>
            <p:cNvSpPr/>
            <p:nvPr/>
          </p:nvSpPr>
          <p:spPr>
            <a:xfrm>
              <a:off x="4424400" y="40690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44"/>
            <p:cNvSpPr/>
            <p:nvPr/>
          </p:nvSpPr>
          <p:spPr>
            <a:xfrm>
              <a:off x="4434120" y="40690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45"/>
            <p:cNvSpPr/>
            <p:nvPr/>
          </p:nvSpPr>
          <p:spPr>
            <a:xfrm>
              <a:off x="4442040" y="40690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46"/>
            <p:cNvSpPr/>
            <p:nvPr/>
          </p:nvSpPr>
          <p:spPr>
            <a:xfrm>
              <a:off x="4459320" y="40705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47"/>
            <p:cNvSpPr/>
            <p:nvPr/>
          </p:nvSpPr>
          <p:spPr>
            <a:xfrm>
              <a:off x="4483080" y="3961080"/>
              <a:ext cx="51120" cy="766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48"/>
            <p:cNvSpPr/>
            <p:nvPr/>
          </p:nvSpPr>
          <p:spPr>
            <a:xfrm>
              <a:off x="4515480" y="39859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9"/>
            <p:cNvSpPr/>
            <p:nvPr/>
          </p:nvSpPr>
          <p:spPr>
            <a:xfrm>
              <a:off x="4563000" y="40302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50"/>
            <p:cNvSpPr/>
            <p:nvPr/>
          </p:nvSpPr>
          <p:spPr>
            <a:xfrm>
              <a:off x="4467240" y="4124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1"/>
            <p:cNvSpPr/>
            <p:nvPr/>
          </p:nvSpPr>
          <p:spPr>
            <a:xfrm>
              <a:off x="4443480" y="3859200"/>
              <a:ext cx="34920" cy="1630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52"/>
            <p:cNvSpPr/>
            <p:nvPr/>
          </p:nvSpPr>
          <p:spPr>
            <a:xfrm>
              <a:off x="4486320" y="4104360"/>
              <a:ext cx="25560" cy="3060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53"/>
            <p:cNvSpPr/>
            <p:nvPr/>
          </p:nvSpPr>
          <p:spPr>
            <a:xfrm>
              <a:off x="4486320" y="41029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54"/>
            <p:cNvSpPr/>
            <p:nvPr/>
          </p:nvSpPr>
          <p:spPr>
            <a:xfrm>
              <a:off x="4486320" y="4102920"/>
              <a:ext cx="25560" cy="320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5"/>
            <p:cNvSpPr/>
            <p:nvPr/>
          </p:nvSpPr>
          <p:spPr>
            <a:xfrm>
              <a:off x="4555080" y="4155480"/>
              <a:ext cx="326880" cy="18144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56"/>
            <p:cNvSpPr/>
            <p:nvPr/>
          </p:nvSpPr>
          <p:spPr>
            <a:xfrm>
              <a:off x="4614120" y="4278240"/>
              <a:ext cx="3348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57"/>
            <p:cNvSpPr/>
            <p:nvPr/>
          </p:nvSpPr>
          <p:spPr>
            <a:xfrm>
              <a:off x="4555080" y="4155480"/>
              <a:ext cx="54000" cy="1137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58"/>
            <p:cNvSpPr/>
            <p:nvPr/>
          </p:nvSpPr>
          <p:spPr>
            <a:xfrm>
              <a:off x="4606200" y="4155480"/>
              <a:ext cx="54000" cy="504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59"/>
            <p:cNvSpPr/>
            <p:nvPr/>
          </p:nvSpPr>
          <p:spPr>
            <a:xfrm>
              <a:off x="4644360" y="42091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60"/>
            <p:cNvSpPr/>
            <p:nvPr/>
          </p:nvSpPr>
          <p:spPr>
            <a:xfrm>
              <a:off x="4644360" y="42091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61"/>
            <p:cNvSpPr/>
            <p:nvPr/>
          </p:nvSpPr>
          <p:spPr>
            <a:xfrm>
              <a:off x="4585680" y="4189320"/>
              <a:ext cx="540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62"/>
            <p:cNvSpPr/>
            <p:nvPr/>
          </p:nvSpPr>
          <p:spPr>
            <a:xfrm>
              <a:off x="4585680" y="4198320"/>
              <a:ext cx="23760" cy="48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63"/>
            <p:cNvSpPr/>
            <p:nvPr/>
          </p:nvSpPr>
          <p:spPr>
            <a:xfrm>
              <a:off x="4588560" y="42508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64"/>
            <p:cNvSpPr/>
            <p:nvPr/>
          </p:nvSpPr>
          <p:spPr>
            <a:xfrm>
              <a:off x="4610880" y="4257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65"/>
            <p:cNvSpPr/>
            <p:nvPr/>
          </p:nvSpPr>
          <p:spPr>
            <a:xfrm>
              <a:off x="4610880" y="4257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66"/>
            <p:cNvSpPr/>
            <p:nvPr/>
          </p:nvSpPr>
          <p:spPr>
            <a:xfrm>
              <a:off x="4620600" y="4257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7"/>
            <p:cNvSpPr/>
            <p:nvPr/>
          </p:nvSpPr>
          <p:spPr>
            <a:xfrm>
              <a:off x="4622040" y="4257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68"/>
            <p:cNvSpPr/>
            <p:nvPr/>
          </p:nvSpPr>
          <p:spPr>
            <a:xfrm>
              <a:off x="4628520" y="4203000"/>
              <a:ext cx="89280" cy="507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69"/>
            <p:cNvSpPr/>
            <p:nvPr/>
          </p:nvSpPr>
          <p:spPr>
            <a:xfrm>
              <a:off x="4723920" y="42030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70"/>
            <p:cNvSpPr/>
            <p:nvPr/>
          </p:nvSpPr>
          <p:spPr>
            <a:xfrm>
              <a:off x="4732200" y="4204440"/>
              <a:ext cx="669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71"/>
            <p:cNvSpPr/>
            <p:nvPr/>
          </p:nvSpPr>
          <p:spPr>
            <a:xfrm>
              <a:off x="4805280" y="422604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72"/>
            <p:cNvSpPr/>
            <p:nvPr/>
          </p:nvSpPr>
          <p:spPr>
            <a:xfrm>
              <a:off x="4829400" y="424944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73"/>
            <p:cNvSpPr/>
            <p:nvPr/>
          </p:nvSpPr>
          <p:spPr>
            <a:xfrm>
              <a:off x="4843800" y="425844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74"/>
            <p:cNvSpPr/>
            <p:nvPr/>
          </p:nvSpPr>
          <p:spPr>
            <a:xfrm>
              <a:off x="4847040" y="4232160"/>
              <a:ext cx="34920" cy="273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75"/>
            <p:cNvSpPr/>
            <p:nvPr/>
          </p:nvSpPr>
          <p:spPr>
            <a:xfrm>
              <a:off x="4883400" y="422892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76"/>
            <p:cNvSpPr/>
            <p:nvPr/>
          </p:nvSpPr>
          <p:spPr>
            <a:xfrm>
              <a:off x="4877280" y="4200120"/>
              <a:ext cx="23760" cy="288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77"/>
            <p:cNvSpPr/>
            <p:nvPr/>
          </p:nvSpPr>
          <p:spPr>
            <a:xfrm>
              <a:off x="4812120" y="4156560"/>
              <a:ext cx="540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78"/>
            <p:cNvSpPr/>
            <p:nvPr/>
          </p:nvSpPr>
          <p:spPr>
            <a:xfrm>
              <a:off x="4869360" y="4156560"/>
              <a:ext cx="252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79"/>
            <p:cNvSpPr/>
            <p:nvPr/>
          </p:nvSpPr>
          <p:spPr>
            <a:xfrm>
              <a:off x="4848480" y="42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80"/>
            <p:cNvSpPr/>
            <p:nvPr/>
          </p:nvSpPr>
          <p:spPr>
            <a:xfrm>
              <a:off x="4850280" y="42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81"/>
            <p:cNvSpPr/>
            <p:nvPr/>
          </p:nvSpPr>
          <p:spPr>
            <a:xfrm>
              <a:off x="4829400" y="42814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82"/>
            <p:cNvSpPr/>
            <p:nvPr/>
          </p:nvSpPr>
          <p:spPr>
            <a:xfrm>
              <a:off x="4741920" y="43538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83"/>
            <p:cNvSpPr/>
            <p:nvPr/>
          </p:nvSpPr>
          <p:spPr>
            <a:xfrm>
              <a:off x="4376520" y="5873400"/>
              <a:ext cx="189720" cy="4096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84"/>
            <p:cNvSpPr/>
            <p:nvPr/>
          </p:nvSpPr>
          <p:spPr>
            <a:xfrm>
              <a:off x="4507560" y="5884200"/>
              <a:ext cx="33120" cy="630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85"/>
            <p:cNvSpPr/>
            <p:nvPr/>
          </p:nvSpPr>
          <p:spPr>
            <a:xfrm>
              <a:off x="4526640" y="5955120"/>
              <a:ext cx="23760" cy="694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86"/>
            <p:cNvSpPr/>
            <p:nvPr/>
          </p:nvSpPr>
          <p:spPr>
            <a:xfrm>
              <a:off x="4518360" y="6027480"/>
              <a:ext cx="33480" cy="385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87"/>
            <p:cNvSpPr/>
            <p:nvPr/>
          </p:nvSpPr>
          <p:spPr>
            <a:xfrm>
              <a:off x="4553280" y="5979960"/>
              <a:ext cx="24120" cy="813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88"/>
            <p:cNvSpPr/>
            <p:nvPr/>
          </p:nvSpPr>
          <p:spPr>
            <a:xfrm>
              <a:off x="4555080" y="5890680"/>
              <a:ext cx="30240" cy="1029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9"/>
            <p:cNvSpPr/>
            <p:nvPr/>
          </p:nvSpPr>
          <p:spPr>
            <a:xfrm>
              <a:off x="4583880" y="5890680"/>
              <a:ext cx="23760" cy="178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0"/>
            <p:cNvSpPr/>
            <p:nvPr/>
          </p:nvSpPr>
          <p:spPr>
            <a:xfrm>
              <a:off x="4563000" y="6072480"/>
              <a:ext cx="23760" cy="80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1"/>
            <p:cNvSpPr/>
            <p:nvPr/>
          </p:nvSpPr>
          <p:spPr>
            <a:xfrm>
              <a:off x="4555080" y="6154200"/>
              <a:ext cx="23760" cy="381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92"/>
            <p:cNvSpPr/>
            <p:nvPr/>
          </p:nvSpPr>
          <p:spPr>
            <a:xfrm>
              <a:off x="4496400" y="6189480"/>
              <a:ext cx="54000" cy="860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93"/>
            <p:cNvSpPr/>
            <p:nvPr/>
          </p:nvSpPr>
          <p:spPr>
            <a:xfrm>
              <a:off x="4443480" y="6211080"/>
              <a:ext cx="52560" cy="1123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94"/>
            <p:cNvSpPr/>
            <p:nvPr/>
          </p:nvSpPr>
          <p:spPr>
            <a:xfrm>
              <a:off x="4427640" y="6212880"/>
              <a:ext cx="65160" cy="907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95"/>
            <p:cNvSpPr/>
            <p:nvPr/>
          </p:nvSpPr>
          <p:spPr>
            <a:xfrm>
              <a:off x="4412880" y="6285240"/>
              <a:ext cx="24120" cy="35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96"/>
            <p:cNvSpPr/>
            <p:nvPr/>
          </p:nvSpPr>
          <p:spPr>
            <a:xfrm>
              <a:off x="4424400" y="62852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97"/>
            <p:cNvSpPr/>
            <p:nvPr/>
          </p:nvSpPr>
          <p:spPr>
            <a:xfrm>
              <a:off x="4426200" y="6191280"/>
              <a:ext cx="56880" cy="860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98"/>
            <p:cNvSpPr/>
            <p:nvPr/>
          </p:nvSpPr>
          <p:spPr>
            <a:xfrm>
              <a:off x="4387680" y="6189480"/>
              <a:ext cx="92520" cy="1108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99"/>
            <p:cNvSpPr/>
            <p:nvPr/>
          </p:nvSpPr>
          <p:spPr>
            <a:xfrm>
              <a:off x="4392360" y="62852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00"/>
            <p:cNvSpPr/>
            <p:nvPr/>
          </p:nvSpPr>
          <p:spPr>
            <a:xfrm>
              <a:off x="4394160" y="6200280"/>
              <a:ext cx="53640" cy="80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01"/>
            <p:cNvSpPr/>
            <p:nvPr/>
          </p:nvSpPr>
          <p:spPr>
            <a:xfrm>
              <a:off x="4449960" y="6168240"/>
              <a:ext cx="23760" cy="306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02"/>
            <p:cNvSpPr/>
            <p:nvPr/>
          </p:nvSpPr>
          <p:spPr>
            <a:xfrm>
              <a:off x="4375080" y="6168240"/>
              <a:ext cx="86040" cy="982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203"/>
            <p:cNvSpPr/>
            <p:nvPr/>
          </p:nvSpPr>
          <p:spPr>
            <a:xfrm>
              <a:off x="4375080" y="62467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4"/>
            <p:cNvSpPr/>
            <p:nvPr/>
          </p:nvSpPr>
          <p:spPr>
            <a:xfrm>
              <a:off x="4379760" y="62449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05"/>
            <p:cNvSpPr/>
            <p:nvPr/>
          </p:nvSpPr>
          <p:spPr>
            <a:xfrm>
              <a:off x="4379760" y="6157080"/>
              <a:ext cx="68040" cy="817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206"/>
            <p:cNvSpPr/>
            <p:nvPr/>
          </p:nvSpPr>
          <p:spPr>
            <a:xfrm>
              <a:off x="4453200" y="61570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207"/>
            <p:cNvSpPr/>
            <p:nvPr/>
          </p:nvSpPr>
          <p:spPr>
            <a:xfrm>
              <a:off x="4384440" y="6157080"/>
              <a:ext cx="63360" cy="612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208"/>
            <p:cNvSpPr/>
            <p:nvPr/>
          </p:nvSpPr>
          <p:spPr>
            <a:xfrm>
              <a:off x="4384440" y="62233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09"/>
            <p:cNvSpPr/>
            <p:nvPr/>
          </p:nvSpPr>
          <p:spPr>
            <a:xfrm>
              <a:off x="4384440" y="6090840"/>
              <a:ext cx="93960" cy="1216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210"/>
            <p:cNvSpPr/>
            <p:nvPr/>
          </p:nvSpPr>
          <p:spPr>
            <a:xfrm>
              <a:off x="4486320" y="60926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211"/>
            <p:cNvSpPr/>
            <p:nvPr/>
          </p:nvSpPr>
          <p:spPr>
            <a:xfrm>
              <a:off x="4486320" y="60926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12"/>
            <p:cNvSpPr/>
            <p:nvPr/>
          </p:nvSpPr>
          <p:spPr>
            <a:xfrm>
              <a:off x="4486320" y="6071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213"/>
            <p:cNvSpPr/>
            <p:nvPr/>
          </p:nvSpPr>
          <p:spPr>
            <a:xfrm>
              <a:off x="4491000" y="6069600"/>
              <a:ext cx="24120" cy="2556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14"/>
            <p:cNvSpPr/>
            <p:nvPr/>
          </p:nvSpPr>
          <p:spPr>
            <a:xfrm>
              <a:off x="4492800" y="5889240"/>
              <a:ext cx="23760" cy="1645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5"/>
            <p:cNvSpPr/>
            <p:nvPr/>
          </p:nvSpPr>
          <p:spPr>
            <a:xfrm>
              <a:off x="4509000" y="5912280"/>
              <a:ext cx="57240" cy="16740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16"/>
            <p:cNvSpPr/>
            <p:nvPr/>
          </p:nvSpPr>
          <p:spPr>
            <a:xfrm>
              <a:off x="4509000" y="5910480"/>
              <a:ext cx="23760" cy="133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17"/>
            <p:cNvSpPr/>
            <p:nvPr/>
          </p:nvSpPr>
          <p:spPr>
            <a:xfrm>
              <a:off x="4509000" y="60537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18"/>
            <p:cNvSpPr/>
            <p:nvPr/>
          </p:nvSpPr>
          <p:spPr>
            <a:xfrm>
              <a:off x="4516920" y="6077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19"/>
            <p:cNvSpPr/>
            <p:nvPr/>
          </p:nvSpPr>
          <p:spPr>
            <a:xfrm>
              <a:off x="4518360" y="607716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0"/>
            <p:cNvSpPr/>
            <p:nvPr/>
          </p:nvSpPr>
          <p:spPr>
            <a:xfrm>
              <a:off x="4518360" y="607716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21"/>
            <p:cNvSpPr/>
            <p:nvPr/>
          </p:nvSpPr>
          <p:spPr>
            <a:xfrm>
              <a:off x="4520160" y="607716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22"/>
            <p:cNvSpPr/>
            <p:nvPr/>
          </p:nvSpPr>
          <p:spPr>
            <a:xfrm>
              <a:off x="4523400" y="60786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23"/>
            <p:cNvSpPr/>
            <p:nvPr/>
          </p:nvSpPr>
          <p:spPr>
            <a:xfrm>
              <a:off x="4523400" y="60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24"/>
            <p:cNvSpPr/>
            <p:nvPr/>
          </p:nvSpPr>
          <p:spPr>
            <a:xfrm>
              <a:off x="4528080" y="60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25"/>
            <p:cNvSpPr/>
            <p:nvPr/>
          </p:nvSpPr>
          <p:spPr>
            <a:xfrm>
              <a:off x="4528080" y="60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26"/>
            <p:cNvSpPr/>
            <p:nvPr/>
          </p:nvSpPr>
          <p:spPr>
            <a:xfrm>
              <a:off x="4534560" y="60800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27"/>
            <p:cNvSpPr/>
            <p:nvPr/>
          </p:nvSpPr>
          <p:spPr>
            <a:xfrm>
              <a:off x="4537440" y="6081840"/>
              <a:ext cx="255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28"/>
            <p:cNvSpPr/>
            <p:nvPr/>
          </p:nvSpPr>
          <p:spPr>
            <a:xfrm>
              <a:off x="4539240" y="60818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29"/>
            <p:cNvSpPr/>
            <p:nvPr/>
          </p:nvSpPr>
          <p:spPr>
            <a:xfrm>
              <a:off x="4558320" y="5986080"/>
              <a:ext cx="23760" cy="1000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30"/>
            <p:cNvSpPr/>
            <p:nvPr/>
          </p:nvSpPr>
          <p:spPr>
            <a:xfrm>
              <a:off x="4566240" y="5913720"/>
              <a:ext cx="23760" cy="8460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31"/>
            <p:cNvSpPr/>
            <p:nvPr/>
          </p:nvSpPr>
          <p:spPr>
            <a:xfrm>
              <a:off x="4470480" y="6117120"/>
              <a:ext cx="41400" cy="5220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32"/>
            <p:cNvSpPr/>
            <p:nvPr/>
          </p:nvSpPr>
          <p:spPr>
            <a:xfrm>
              <a:off x="4469040" y="6115680"/>
              <a:ext cx="42840" cy="33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33"/>
            <p:cNvSpPr/>
            <p:nvPr/>
          </p:nvSpPr>
          <p:spPr>
            <a:xfrm>
              <a:off x="4510440" y="613404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34"/>
            <p:cNvSpPr/>
            <p:nvPr/>
          </p:nvSpPr>
          <p:spPr>
            <a:xfrm>
              <a:off x="4509000" y="61434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35"/>
            <p:cNvSpPr/>
            <p:nvPr/>
          </p:nvSpPr>
          <p:spPr>
            <a:xfrm>
              <a:off x="4504320" y="614628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36"/>
            <p:cNvSpPr/>
            <p:nvPr/>
          </p:nvSpPr>
          <p:spPr>
            <a:xfrm>
              <a:off x="4502520" y="614772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7"/>
            <p:cNvSpPr/>
            <p:nvPr/>
          </p:nvSpPr>
          <p:spPr>
            <a:xfrm>
              <a:off x="4502520" y="614952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38"/>
            <p:cNvSpPr/>
            <p:nvPr/>
          </p:nvSpPr>
          <p:spPr>
            <a:xfrm>
              <a:off x="4499640" y="615420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39"/>
            <p:cNvSpPr/>
            <p:nvPr/>
          </p:nvSpPr>
          <p:spPr>
            <a:xfrm>
              <a:off x="4497840" y="617112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40"/>
            <p:cNvSpPr/>
            <p:nvPr/>
          </p:nvSpPr>
          <p:spPr>
            <a:xfrm>
              <a:off x="4467240" y="6149520"/>
              <a:ext cx="288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41"/>
            <p:cNvSpPr/>
            <p:nvPr/>
          </p:nvSpPr>
          <p:spPr>
            <a:xfrm>
              <a:off x="4486320" y="6095520"/>
              <a:ext cx="36720" cy="9576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42"/>
            <p:cNvSpPr/>
            <p:nvPr/>
          </p:nvSpPr>
          <p:spPr>
            <a:xfrm>
              <a:off x="4486320" y="6094080"/>
              <a:ext cx="36720" cy="9684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43"/>
            <p:cNvSpPr/>
            <p:nvPr/>
          </p:nvSpPr>
          <p:spPr>
            <a:xfrm>
              <a:off x="4512240" y="6143400"/>
              <a:ext cx="31680" cy="4464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44"/>
            <p:cNvSpPr/>
            <p:nvPr/>
          </p:nvSpPr>
          <p:spPr>
            <a:xfrm>
              <a:off x="4523400" y="6141960"/>
              <a:ext cx="23760" cy="460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45"/>
            <p:cNvSpPr/>
            <p:nvPr/>
          </p:nvSpPr>
          <p:spPr>
            <a:xfrm>
              <a:off x="4537440" y="6189480"/>
              <a:ext cx="2412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46"/>
            <p:cNvSpPr/>
            <p:nvPr/>
          </p:nvSpPr>
          <p:spPr>
            <a:xfrm>
              <a:off x="4512240" y="6179040"/>
              <a:ext cx="2520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47"/>
            <p:cNvSpPr/>
            <p:nvPr/>
          </p:nvSpPr>
          <p:spPr>
            <a:xfrm>
              <a:off x="4512240" y="6177240"/>
              <a:ext cx="23760" cy="259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48"/>
            <p:cNvSpPr/>
            <p:nvPr/>
          </p:nvSpPr>
          <p:spPr>
            <a:xfrm>
              <a:off x="4504320" y="6191280"/>
              <a:ext cx="27000" cy="352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49"/>
            <p:cNvSpPr/>
            <p:nvPr/>
          </p:nvSpPr>
          <p:spPr>
            <a:xfrm>
              <a:off x="4502520" y="6191280"/>
              <a:ext cx="30240" cy="3672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50"/>
            <p:cNvSpPr/>
            <p:nvPr/>
          </p:nvSpPr>
          <p:spPr>
            <a:xfrm>
              <a:off x="4550400" y="6094080"/>
              <a:ext cx="25200" cy="47880"/>
            </a:xfrm>
            <a:prstGeom prst="pie">
              <a:avLst/>
            </a:prstGeom>
            <a:noFill/>
            <a:ln cap="rnd"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51"/>
            <p:cNvSpPr/>
            <p:nvPr/>
          </p:nvSpPr>
          <p:spPr>
            <a:xfrm>
              <a:off x="4550400" y="6094080"/>
              <a:ext cx="25200" cy="47880"/>
            </a:xfrm>
            <a:prstGeom prst="pi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252"/>
            <p:cNvSpPr/>
            <p:nvPr/>
          </p:nvSpPr>
          <p:spPr>
            <a:xfrm flipH="1">
              <a:off x="4955400" y="1978920"/>
              <a:ext cx="13024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253"/>
            <p:cNvSpPr/>
            <p:nvPr/>
          </p:nvSpPr>
          <p:spPr>
            <a:xfrm>
              <a:off x="3871080" y="2678760"/>
              <a:ext cx="711360" cy="1980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254"/>
            <p:cNvSpPr/>
            <p:nvPr/>
          </p:nvSpPr>
          <p:spPr>
            <a:xfrm>
              <a:off x="3508920" y="3448080"/>
              <a:ext cx="9262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255"/>
            <p:cNvSpPr/>
            <p:nvPr/>
          </p:nvSpPr>
          <p:spPr>
            <a:xfrm>
              <a:off x="250920" y="2498400"/>
              <a:ext cx="3843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Times New Roman"/>
                </a:rPr>
                <a:t>РЕСПИРАТОРНИ ПОРЕМЕЋАЈ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256"/>
            <p:cNvSpPr/>
            <p:nvPr/>
          </p:nvSpPr>
          <p:spPr>
            <a:xfrm>
              <a:off x="250920" y="3238200"/>
              <a:ext cx="3462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Times New Roman"/>
                </a:rPr>
                <a:t>ХОРМОНСКИ ПОРЕМЕЋАЈ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57"/>
            <p:cNvSpPr/>
            <p:nvPr/>
          </p:nvSpPr>
          <p:spPr>
            <a:xfrm>
              <a:off x="6164640" y="1838880"/>
              <a:ext cx="2315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Times New Roman"/>
                </a:rPr>
                <a:t>СЛУШНИ АПАРА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258"/>
            <p:cNvSpPr/>
            <p:nvPr/>
          </p:nvSpPr>
          <p:spPr>
            <a:xfrm flipH="1">
              <a:off x="4795560" y="2850120"/>
              <a:ext cx="1422360" cy="10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59"/>
            <p:cNvSpPr/>
            <p:nvPr/>
          </p:nvSpPr>
          <p:spPr>
            <a:xfrm>
              <a:off x="313560" y="1700280"/>
              <a:ext cx="26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Times New Roman"/>
                </a:rPr>
                <a:t>ПОРЕМЕЋАЈИ ЦНС-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260"/>
            <p:cNvSpPr/>
            <p:nvPr/>
          </p:nvSpPr>
          <p:spPr>
            <a:xfrm>
              <a:off x="2713320" y="1909800"/>
              <a:ext cx="173664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3"/>
          <p:cNvSpPr/>
          <p:nvPr/>
        </p:nvSpPr>
        <p:spPr>
          <a:xfrm>
            <a:off x="685800" y="40464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аурикуларн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д слушних оштећења, као последица утицаја буке, најчешће се јављ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ећај притиска у уш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ањена чујност шапата и звукова високих фрекфенција све до губитка сл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убитак слуха се најчешће јавља на фрекфенцијама од 3500 до 5000 Hz и најчешће је последица изложености буци на радном мес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ложеност буци ван радног места изазива удружене слушне са ванслушним ефект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3"/>
          <p:cNvSpPr/>
          <p:nvPr/>
        </p:nvSpPr>
        <p:spPr>
          <a:xfrm>
            <a:off x="684360" y="476280"/>
            <a:ext cx="792468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Ван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екстрааурикуларн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ред директног механичког утицаја буке, које се среће само код изузетно јаке буке, остали утицаји на човечији организам се могу објаснити повећаном стимулацијом вегетативног нервног система (симпатикус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 јачини буке преко 60 dB, а посебно преко 80 dB брзо се јављају симптоми повећаног тонуса симпатикуса. Што је интензитет буке већи симптоми су израженији и јављају се у краћем времену после почетка излаг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3"/>
          <p:cNvSpPr/>
          <p:nvPr/>
        </p:nvSpPr>
        <p:spPr>
          <a:xfrm>
            <a:off x="685800" y="476280"/>
            <a:ext cx="79246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Ван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екстрааурикуларн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Надражај симпатикуса изази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рч артери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аст крвног притиска нарочито дијастолн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ад ударног волумена с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мањење периферне циркул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емећај дисања, покрета црева, функције централног нервног система, целокупног метабо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емећаја лучења надбубрежних жлезди, панкреаса, хипофи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3"/>
          <p:cNvSpPr/>
          <p:nvPr/>
        </p:nvSpPr>
        <p:spPr>
          <a:xfrm>
            <a:off x="685800" y="2146320"/>
            <a:ext cx="7924680" cy="42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. Ванслушна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екстра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урикуларн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) оштећ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Симптоми који се најчешће јављају с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м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аздражљив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са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0" y="7272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ОЗВОЉЕНИ НИВО БУКЕ У ЖИВОТНОЈ 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684360" y="2708280"/>
            <a:ext cx="3429000" cy="40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мбене зграде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боравишне просторије-затворен прост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извора у зг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 извора ван згра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4343400" y="2254320"/>
            <a:ext cx="480060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вољени ниво буке у dB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                            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                                       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312840" y="2133720"/>
            <a:ext cx="3700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Врс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в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уг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јек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творе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зо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1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олниц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лини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мов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драв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олеснич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рдин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перацио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ло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е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дицинск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пр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4343400" y="1413000"/>
            <a:ext cx="480060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озвоље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B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                                   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                                               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                                              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785880" y="1500120"/>
            <a:ext cx="3276360" cy="51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Врс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вн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уг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јек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затворен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</a:rPr>
              <a:t>прозо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2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сториј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м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ц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чени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паваћ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об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мо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орава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рих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иц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ензион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в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г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во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а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гра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325760" y="1484280"/>
            <a:ext cx="48006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озвољен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B(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                                   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                                              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838080" y="1981080"/>
            <a:ext cx="3276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Јавни и други објек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затворени прозо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3. Просторије за васпитно-образовни рад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чионице, слушаонице, кабине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биоскопи и библиоте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4370400" y="1990800"/>
            <a:ext cx="4800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вољени ниво буке у dB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                                               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838080" y="1981080"/>
            <a:ext cx="32767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Јавни и други објек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затворени прозор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4. Позоришне и концертне са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5. Хотелске 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вор у згра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вор ван згра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4316400" y="1557360"/>
            <a:ext cx="480060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вољени ниво буке у dB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                                    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                                                 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                                                  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539640" y="765000"/>
            <a:ext cx="7920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ука у животној средини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јесте нежељен или штетан звук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звор бук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ј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е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сваки емитер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ежељеног или штетног звука. Т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може да буде сваки уређај, средство за рад, саобраћајно средство, инсталација постројења, технолошки поступак, електроакустички уређај, људска активност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Изворима звука сматрају се покретни и непокретни објекти који под одређеним околностима генеришу звук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а такође и отворени и затворени простори за спорт, игру, плес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представе, концерт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слуш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њ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е музике и сл. као 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гоститељски објекти,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гараже, паркинг простори и др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838080" y="1981080"/>
            <a:ext cx="350532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Зоне нас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тамб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словно-стамбена и трговачко-стамбена, дечија игралиш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Школска, туристичка, сео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343400" y="1981080"/>
            <a:ext cx="48006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вољени ниво буке у dB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5                                                  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                                                  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                                                  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2"/>
          <p:cNvSpPr/>
          <p:nvPr/>
        </p:nvSpPr>
        <p:spPr>
          <a:xfrm>
            <a:off x="762120" y="72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ЗВОЉЕНИ НИВО БУКЕ У ЖИВОТНОЈ 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762120" y="1905120"/>
            <a:ext cx="35049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рсте зо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Зоне нас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еленила, одмора и рекреације, болничка, викенд нас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дски цен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дустријска без стамбених згра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4343400" y="1981080"/>
            <a:ext cx="4800600" cy="49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звољени ниво буке у dB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Но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                                                   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                                                  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                                                   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762120" y="727200"/>
            <a:ext cx="565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РСТЕ БУ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3"/>
          <p:cNvGrpSpPr/>
          <p:nvPr/>
        </p:nvGrpSpPr>
        <p:grpSpPr>
          <a:xfrm>
            <a:off x="755640" y="1700280"/>
            <a:ext cx="8064360" cy="4503240"/>
            <a:chOff x="755640" y="1700280"/>
            <a:chExt cx="8064360" cy="4503240"/>
          </a:xfrm>
        </p:grpSpPr>
        <p:sp>
          <p:nvSpPr>
            <p:cNvPr id="359" name="Text Box 4"/>
            <p:cNvSpPr/>
            <p:nvPr/>
          </p:nvSpPr>
          <p:spPr>
            <a:xfrm>
              <a:off x="3714840" y="1700280"/>
              <a:ext cx="164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000000"/>
                  </a:solidFill>
                  <a:latin typeface="Times New Roman"/>
                </a:rPr>
                <a:t>БУ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5"/>
            <p:cNvSpPr/>
            <p:nvPr/>
          </p:nvSpPr>
          <p:spPr>
            <a:xfrm>
              <a:off x="755640" y="2205000"/>
              <a:ext cx="2232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БУКА ПРИРОДЕ без утицаја чове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6"/>
            <p:cNvSpPr/>
            <p:nvPr/>
          </p:nvSpPr>
          <p:spPr>
            <a:xfrm>
              <a:off x="5651640" y="2133720"/>
              <a:ext cx="2736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БУКА КОЈУ СТВАРА ЧОВ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"/>
            <p:cNvSpPr/>
            <p:nvPr/>
          </p:nvSpPr>
          <p:spPr>
            <a:xfrm>
              <a:off x="755640" y="3193920"/>
              <a:ext cx="3311640" cy="30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БУКА У РАДНОЈ СРЕДИН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оруђа на радном мест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оруђа са других радних мес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непроизводних извора (саобраћај, вентилација и др.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8"/>
            <p:cNvSpPr/>
            <p:nvPr/>
          </p:nvSpPr>
          <p:spPr>
            <a:xfrm>
              <a:off x="4859280" y="3141720"/>
              <a:ext cx="3960720" cy="28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БУКА У ЖИВОТНОЈ СРЕДИНИ (КОМУНАЛНА БУК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у кућ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саобраћа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индустријска постројењ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Times New Roman"/>
                </a:rPr>
                <a:t>улич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9"/>
            <p:cNvSpPr/>
            <p:nvPr/>
          </p:nvSpPr>
          <p:spPr>
            <a:xfrm flipH="1">
              <a:off x="2771280" y="1989000"/>
              <a:ext cx="863640" cy="287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0"/>
            <p:cNvSpPr/>
            <p:nvPr/>
          </p:nvSpPr>
          <p:spPr>
            <a:xfrm>
              <a:off x="4932360" y="1989000"/>
              <a:ext cx="792000" cy="216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1"/>
            <p:cNvSpPr/>
            <p:nvPr/>
          </p:nvSpPr>
          <p:spPr>
            <a:xfrm flipH="1">
              <a:off x="3058920" y="2708280"/>
              <a:ext cx="2592360" cy="576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2"/>
            <p:cNvSpPr/>
            <p:nvPr/>
          </p:nvSpPr>
          <p:spPr>
            <a:xfrm>
              <a:off x="6948360" y="2852640"/>
              <a:ext cx="0" cy="2890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611280" y="5493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МЕРЕ ЗАШТИТЕ ОД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УКЕ У ЖИВОТНОЈ 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468360" y="4451400"/>
            <a:ext cx="23032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ИЗИОЛОШ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контракција миши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неуролошки феномен одб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адапт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2700360" y="2133720"/>
            <a:ext cx="37432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ЕХНИЧКОТЕХНОЛОШ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смањење на изв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смањење пренош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смањење на месту приј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лична зашт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промена процеса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6227640" y="3933720"/>
            <a:ext cx="280836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АВНО СОЦИЈАЛ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пропи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норме и стандар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одлу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жал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-пети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"/>
          <p:cNvSpPr/>
          <p:nvPr/>
        </p:nvSpPr>
        <p:spPr>
          <a:xfrm flipH="1">
            <a:off x="1186920" y="1916280"/>
            <a:ext cx="1513080" cy="2304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6588000" y="1773360"/>
            <a:ext cx="1152720" cy="20160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8"/>
          <p:cNvSpPr/>
          <p:nvPr/>
        </p:nvSpPr>
        <p:spPr>
          <a:xfrm>
            <a:off x="4500720" y="1628640"/>
            <a:ext cx="0" cy="5050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2"/>
          <p:cNvSpPr/>
          <p:nvPr/>
        </p:nvSpPr>
        <p:spPr>
          <a:xfrm>
            <a:off x="611280" y="5493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ЕР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ЗАШТИТ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ЖИВОТНО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539640" y="1773360"/>
            <a:ext cx="79916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ИЗИОЛОШКЕ МЕРЕ ЗАШТИТЕ ОД 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 промене физичких карактеристика средњег уха и неуролошки феномени адаптације и зам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д дејством буке настаје контракција мишића средњег уха и смањење преноса звука према унутрашњем ух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јемом првих информација о звуку центри у ЦНС-у смањују осетљивост чула. Настаје слушна адаптација или слушни зам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611280" y="5493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ЕР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ЗАШТИТ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ЖИВОТНО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3"/>
          <p:cNvSpPr/>
          <p:nvPr/>
        </p:nvSpPr>
        <p:spPr>
          <a:xfrm>
            <a:off x="611280" y="2060640"/>
            <a:ext cx="7848360" cy="43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ТЕХНИЧКОТЕХНОЛОШ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у мере које отклањају буку 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зв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утањи између извора и пријем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есту пријема зв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611280" y="1890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МЕР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ЗАШТИТ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ОД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БУК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ЖИВОТНОЈ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СРЕД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"/>
          <p:cNvSpPr/>
          <p:nvPr/>
        </p:nvSpPr>
        <p:spPr>
          <a:xfrm>
            <a:off x="468360" y="1413000"/>
            <a:ext cx="8281800" cy="51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ТЕХНИЧКОТЕХНОЛОШ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Звучна заштита на извору буке се постиже: смањењем побудних сила, пригушењем елемената на које делују побудне силе, променом режима, начина и принципа рада из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Times New Roman"/>
              </a:rPr>
              <a:t>Звучна заштита на путањи звука за изворе на отвореном простору обухвата: урбанистичка и архитектонска решење постављања извора, коришћење акустичких заклона, пројектовање улица и простора, распоред просторија, врата, прозор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Calibri"/>
              </a:rPr>
              <a:t>Звучна заштита на путањи звука за изворе на затвореном простору обухвата: избор места за лоцирање извора, груписање бучних и тихих просторија, звучну заштиту инсталација, избор грађевинских елемената, зидова, међуспратних конструкција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Звучна заштита на месту пријема звука подразумева заштиту човека (лична заштитна средств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чепови (пригушују буку за 10-15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dB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наушнице (пригушују буку за 25-30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dB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шлемови (пригушују буку до 40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dB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49"/>
              </a:spcBef>
              <a:buClr>
                <a:srgbClr val="ffff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одела (пригушују буку преко 40 </a:t>
            </a:r>
            <a:r>
              <a:rPr b="1" lang="en-US" sz="2800" spc="-1" strike="noStrike">
                <a:solidFill>
                  <a:srgbClr val="ffff00"/>
                </a:solidFill>
                <a:latin typeface="Calibri"/>
              </a:rPr>
              <a:t>dB</a:t>
            </a:r>
            <a:r>
              <a:rPr b="1" lang="sr-CS" sz="2800" spc="-1" strike="noStrike">
                <a:solidFill>
                  <a:srgbClr val="ffff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2"/>
          <p:cNvSpPr/>
          <p:nvPr/>
        </p:nvSpPr>
        <p:spPr>
          <a:xfrm>
            <a:off x="611280" y="54936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МЕР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ЗАШТИТЕ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ОД</a:t>
            </a:r>
            <a:r>
              <a:rPr b="1" lang="sr-Latn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БУКЕ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ЖИВОТНОЈ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ff00"/>
                </a:solidFill>
                <a:latin typeface="Times New Roman"/>
              </a:rPr>
              <a:t>СРЕД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611280" y="1989000"/>
            <a:ext cx="770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ПРАВНО СОЦИЈАЛ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Нормативи, стандарди и законски прописи претварају важећа научна и стручна знања и сазнања у законске прописе, како би друштво обезбедило њихову примену и омогућило заштиту од бу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Они обухватају и део казни над онима који их не поштуј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108000" y="115920"/>
            <a:ext cx="9036000" cy="86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Штетни ефек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јесу негативни утицаји буке на здравље људи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 животну средину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Узнемиравањ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јесте степен ометања људи буком, који се утврђује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спитивањем на лицу места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прописаним методама проц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Индикатор бук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јесте физичка величина којом се описује бука у животној средини, а везана је за штетни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фекат бук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Процена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јесте метод који се користи за израчунавање, предвиђање или мерење индикатора буке или одговарајућих штетних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фекат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бук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1295280" y="271296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етодологија мерењ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2"/>
          <p:cNvSpPr/>
          <p:nvPr/>
        </p:nvSpPr>
        <p:spPr>
          <a:xfrm>
            <a:off x="685800" y="7160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755640" y="1341360"/>
            <a:ext cx="756144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Е КОЈИМА СЕ МЕР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БУКА ЗАВИСЕ ОД ЦИЉА МЕРЕЊ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Оне пружају податке погодне за оцену нивоа буке и процену могућих утица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У основи постоје два начина мерења бу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1. ОБЈЕКТИВ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Је одређивање и праћење физичких параметара репрезентативних за ниво буке у средини у којој се она јављ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2. СУБЈЕКТИ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Омогућава процену ометајућег и штетног утицаја. Подразумева директну реакцију човека на физичко стање средине у којој влада бука одређених карактерис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755640" y="1700280"/>
            <a:ext cx="756144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потреб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зличит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ип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а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вукоме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ономета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умоме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т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агнетофон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исаче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д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нцип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твар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вуч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енерг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електрич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ст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а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ндард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дн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ивотн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755640" y="2187720"/>
            <a:ext cx="7561440" cy="40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ТАНДАРДН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ОНОМЕТАР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астој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икрофо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искофрекфентн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јачивач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тенуато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етекто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нструмент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аждарен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ецибели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нструиса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а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рењ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вод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ил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ст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ил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ји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ременски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илика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треб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абра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говарајућ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илтер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нзор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кључ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пара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инамич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друч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ономет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ели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бухват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псе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26-14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B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755640" y="1844640"/>
            <a:ext cx="75614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А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луж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дн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ивотн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дноставни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ндард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луж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утинс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дустријс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мунал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жен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инамичк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друч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60-14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т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вољ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актич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врх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иту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вља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ере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3"/>
          <p:cNvSpPr/>
          <p:nvPr/>
        </p:nvSpPr>
        <p:spPr>
          <a:xfrm>
            <a:off x="103320" y="333360"/>
            <a:ext cx="8785080" cy="64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ТАНОВ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в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уг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јект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вак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стори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дн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ст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даље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ид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1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зо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с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,2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зо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а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творе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ЖИВОТН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с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,2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врши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ер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даље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јм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3,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ид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јека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звољава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слов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он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еленил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мо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екреаци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он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ултур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сторијск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окалите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мбе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колск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олничк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сторијск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јмањ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р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с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вномер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споређе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дминистратив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прав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дустријск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он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мбен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града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јм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0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с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вномер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споређе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3"/>
          <p:cNvSpPr/>
          <p:nvPr/>
        </p:nvSpPr>
        <p:spPr>
          <a:xfrm>
            <a:off x="684360" y="1916280"/>
            <a:ext cx="7561080" cy="43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ВА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ређу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ип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луча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менљув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јм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к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к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оћ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аксимал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вал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6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оћ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22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О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684360" y="1916280"/>
            <a:ext cx="756108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РЗИ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ЗИМ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ЗОРА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јединач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ово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ири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лас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рвал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зим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зора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вис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ракте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поручу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ледећ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рзи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0, 5, 2, 1, 0,5, 0,2, 0,1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ку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шири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2, 3, 4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B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ј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е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ухва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ита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циклу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м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иво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сматра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684360" y="2098800"/>
            <a:ext cx="7561080" cy="43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ТОД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РИСТ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ЗАСНОВА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БЈЕКТИВНИ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ЦЕНА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ИВО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ТИЧ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СОБ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ЧЕСТВУ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РЕЊИ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АЧИ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ож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бјекти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ер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поређивање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нтензитет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тандардн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о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1000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Хз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обијен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алибрисан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аркхаузеново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ономет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имен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говорн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ритериј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84360" y="1792440"/>
            <a:ext cx="806436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СНОВА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поређивањ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ензитет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ндард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о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100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z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бије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либриса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аркхаузенов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езулта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ирект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чита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ометр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дстављ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бјектив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ачи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ву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он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узда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в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тод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олаз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м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честву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вежба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о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езулта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д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едн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мере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ред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в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о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то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вед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70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оди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ана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ет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ри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611280" y="404640"/>
            <a:ext cx="7920000" cy="65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i="1" lang="sr-CS" sz="2400" spc="-1" strike="noStrike">
                <a:solidFill>
                  <a:srgbClr val="000000"/>
                </a:solidFill>
                <a:latin typeface="Times New Roman"/>
              </a:rPr>
              <a:t>кустичко зонирањ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јест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одређивање граничне вредности индикатора буке за различита подручја према њиховој наме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Израда стратешких карата буке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јесте представљање података о постојећим или процењеним нивоима буке, укључујући прекорачења прописаних граничних вредности, броја људи изложених буци на неком подручју или броја домаћинстава изложених одређеним вредностима индикатора буке на одређеном подруч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Стратешка карта буке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јесте карта која представља податке о нивоима буке на одређеном подручју и служи за процену укупне изложености буци одређеног подручја од различитих извора буке или за предвиђање укупн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буке на неком подруч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684360" y="1990800"/>
            <a:ext cx="7561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СНОВА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ме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овор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ритерију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то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стој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це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треб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пор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овор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ји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стиж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поразуме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реди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јој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ла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руб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тод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685800" y="71604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БУКА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УБЈЕКТИВНО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МЕРЕЊЕ</a:t>
            </a:r>
            <a:r>
              <a:rPr b="1" lang="sl-SI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3"/>
          <p:cNvSpPr/>
          <p:nvPr/>
        </p:nvSpPr>
        <p:spPr>
          <a:xfrm>
            <a:off x="684360" y="14842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и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ук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бзир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огућн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епосред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поразумев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оворо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755640" y="6597720"/>
            <a:ext cx="7777080" cy="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5"/>
          <p:cNvGrpSpPr/>
          <p:nvPr/>
        </p:nvGrpSpPr>
        <p:grpSpPr>
          <a:xfrm>
            <a:off x="755640" y="2565360"/>
            <a:ext cx="7777080" cy="757800"/>
            <a:chOff x="755640" y="2565360"/>
            <a:chExt cx="7777080" cy="757800"/>
          </a:xfrm>
        </p:grpSpPr>
        <p:sp>
          <p:nvSpPr>
            <p:cNvPr id="409" name="Line 6"/>
            <p:cNvSpPr/>
            <p:nvPr/>
          </p:nvSpPr>
          <p:spPr>
            <a:xfrm>
              <a:off x="755640" y="2565360"/>
              <a:ext cx="7777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7"/>
            <p:cNvSpPr/>
            <p:nvPr/>
          </p:nvSpPr>
          <p:spPr>
            <a:xfrm>
              <a:off x="755640" y="3284640"/>
              <a:ext cx="777708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8"/>
            <p:cNvSpPr/>
            <p:nvPr/>
          </p:nvSpPr>
          <p:spPr>
            <a:xfrm>
              <a:off x="755640" y="2565360"/>
              <a:ext cx="115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dB(A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9"/>
            <p:cNvSpPr/>
            <p:nvPr/>
          </p:nvSpPr>
          <p:spPr>
            <a:xfrm>
              <a:off x="4356000" y="2565360"/>
              <a:ext cx="302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Udaljenost u metri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10"/>
            <p:cNvSpPr/>
            <p:nvPr/>
          </p:nvSpPr>
          <p:spPr>
            <a:xfrm>
              <a:off x="2916360" y="2924280"/>
              <a:ext cx="24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Normalan gov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11"/>
            <p:cNvSpPr/>
            <p:nvPr/>
          </p:nvSpPr>
          <p:spPr>
            <a:xfrm>
              <a:off x="6372360" y="2924280"/>
              <a:ext cx="18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Glasan  gov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12"/>
          <p:cNvSpPr/>
          <p:nvPr/>
        </p:nvSpPr>
        <p:spPr>
          <a:xfrm>
            <a:off x="755640" y="3429000"/>
            <a:ext cx="93672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3"/>
          <p:cNvSpPr/>
          <p:nvPr/>
        </p:nvSpPr>
        <p:spPr>
          <a:xfrm>
            <a:off x="3708360" y="3421080"/>
            <a:ext cx="100800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6588000" y="3421080"/>
            <a:ext cx="100836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2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0,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611280" y="549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ВИБРАЦ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611280" y="1060560"/>
            <a:ext cx="8137440" cy="58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у механичка колебања у области инфразвука и делимично области звучне хрекфен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новне величине које карактеришу вибрације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мплит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рекф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Човек прима вибрације кроз било коју рецептивну зону ко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јосетљивија је кожа екстремитета (фаланге прстију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етљивост на вибрације зависи од дневних колебања прага надражаја, а ово колебање зависи од функционалног стања коре великог мозга. Праг надражаја виши ујутру и уве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611280" y="549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ВИБРАЦ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611280" y="14241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бра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ндрејев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алан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4"/>
          <p:cNvGrpSpPr/>
          <p:nvPr/>
        </p:nvGrpSpPr>
        <p:grpSpPr>
          <a:xfrm>
            <a:off x="684360" y="2133720"/>
            <a:ext cx="8207280" cy="4520160"/>
            <a:chOff x="684360" y="2133720"/>
            <a:chExt cx="8207280" cy="4520160"/>
          </a:xfrm>
        </p:grpSpPr>
        <p:sp>
          <p:nvSpPr>
            <p:cNvPr id="423" name="Line 5"/>
            <p:cNvSpPr/>
            <p:nvPr/>
          </p:nvSpPr>
          <p:spPr>
            <a:xfrm>
              <a:off x="684360" y="6597720"/>
              <a:ext cx="79214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6"/>
            <p:cNvGrpSpPr/>
            <p:nvPr/>
          </p:nvGrpSpPr>
          <p:grpSpPr>
            <a:xfrm>
              <a:off x="684360" y="2133720"/>
              <a:ext cx="7921440" cy="574560"/>
              <a:chOff x="684360" y="2133720"/>
              <a:chExt cx="7921440" cy="574560"/>
            </a:xfrm>
          </p:grpSpPr>
          <p:sp>
            <p:nvSpPr>
              <p:cNvPr id="425" name="Line 7"/>
              <p:cNvSpPr/>
              <p:nvPr/>
            </p:nvSpPr>
            <p:spPr>
              <a:xfrm>
                <a:off x="684360" y="2133720"/>
                <a:ext cx="7921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8"/>
              <p:cNvSpPr/>
              <p:nvPr/>
            </p:nvSpPr>
            <p:spPr>
              <a:xfrm>
                <a:off x="684360" y="2708280"/>
                <a:ext cx="7921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 Box 9"/>
              <p:cNvSpPr/>
              <p:nvPr/>
            </p:nvSpPr>
            <p:spPr>
              <a:xfrm>
                <a:off x="755640" y="2205000"/>
                <a:ext cx="208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Frekfencija (Hz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 Box 10"/>
              <p:cNvSpPr/>
              <p:nvPr/>
            </p:nvSpPr>
            <p:spPr>
              <a:xfrm>
                <a:off x="5003640" y="2205000"/>
                <a:ext cx="338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2000" spc="-1" strike="noStrike">
                    <a:solidFill>
                      <a:srgbClr val="000000"/>
                    </a:solidFill>
                    <a:latin typeface="Times New Roman"/>
                  </a:rPr>
                  <a:t>Karakter dejstv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Text Box 11"/>
            <p:cNvSpPr/>
            <p:nvPr/>
          </p:nvSpPr>
          <p:spPr>
            <a:xfrm>
              <a:off x="755640" y="2781360"/>
              <a:ext cx="1584360" cy="37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do 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do 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do 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2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</a:rPr>
                <a:t>16000 i &gt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12"/>
            <p:cNvSpPr/>
            <p:nvPr/>
          </p:nvSpPr>
          <p:spPr>
            <a:xfrm>
              <a:off x="3059280" y="2708280"/>
              <a:ext cx="576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Dejstvuje ubrzanjem, izaziva poremećaj celog tela i organa, rakciju vestibularnog aparat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Text Box 13"/>
            <p:cNvSpPr/>
            <p:nvPr/>
          </p:nvSpPr>
          <p:spPr>
            <a:xfrm>
              <a:off x="3040200" y="3376440"/>
              <a:ext cx="5779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Prima se još kao pojedinačni udar, Izaziva promene koštanozglobnog siste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 Box 14"/>
            <p:cNvSpPr/>
            <p:nvPr/>
          </p:nvSpPr>
          <p:spPr>
            <a:xfrm>
              <a:off x="3059280" y="4095720"/>
              <a:ext cx="5616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Pojavljuju se pojedinačni simptomi vibracione bolesti, spazam krvnih sudova je reda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 Box 15"/>
            <p:cNvSpPr/>
            <p:nvPr/>
          </p:nvSpPr>
          <p:spPr>
            <a:xfrm>
              <a:off x="3059280" y="4724280"/>
              <a:ext cx="576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Vibraciona bolest sa angiospazmom, zona obrazovanja angiospazm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16"/>
            <p:cNvSpPr/>
            <p:nvPr/>
          </p:nvSpPr>
          <p:spPr>
            <a:xfrm>
              <a:off x="3059280" y="5479920"/>
              <a:ext cx="57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Mogućnost vibracione bolesti se isključuj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7"/>
            <p:cNvSpPr/>
            <p:nvPr/>
          </p:nvSpPr>
          <p:spPr>
            <a:xfrm>
              <a:off x="3059280" y="5950080"/>
              <a:ext cx="5832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Times New Roman"/>
                </a:rPr>
                <a:t>Prelaz mehaničke energije u toplotnu. Baktericidni efekat, kavitacioni efekat, uticaj na CN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611280" y="549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ВИБРАЦ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611280" y="2085840"/>
            <a:ext cx="8137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епе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мен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ј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аста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сле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елов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ибра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вис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нкретних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сл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ункционалног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ањ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ужи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злошеност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2"/>
          <p:cNvSpPr/>
          <p:nvPr/>
        </p:nvSpPr>
        <p:spPr>
          <a:xfrm>
            <a:off x="611280" y="5493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ВИБРАЦИЈ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биолошк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ејство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611280" y="1708200"/>
            <a:ext cx="813744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ИБРАЦИО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ОЛЕС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четир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тадију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арактериш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лаб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ражен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олов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рука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нажан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аг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сетљивос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ибраци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клонос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грчевим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аписар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јав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ањ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рофичних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штећењ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станк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еловањ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ибрац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в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губ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ач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раж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исут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лаветнил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шак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већа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знојењ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ог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губит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естанко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деловањ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вибрац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леч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авља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јак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болов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мање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сетљивост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шак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ремећен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функциј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штитаст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жлезд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КВС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рај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лечењ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тежа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роме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захвата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читав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рганизам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рајн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зузетн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теш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отклањај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Ретко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реће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sr-CS" sz="49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900000" y="1763640"/>
            <a:ext cx="784872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однебљ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куп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атмосферск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роцес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односно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временск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ој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арактериш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редњ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тањ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атмосфер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једног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географског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редњ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физичко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тањ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атмосфер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добиј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из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дугогодишњ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осматрањ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Временск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јединиц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годин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900000" y="1268280"/>
            <a:ext cx="7848720" cy="54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РЕ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вар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матра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ренутк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раћ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15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ну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РЕ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финиса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а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ступ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редњ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редно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д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уг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авц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вис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нтензите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ступ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уж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рај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вис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нтензите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уж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рај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ступ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јважни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актор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ормир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реме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нтензите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нчев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рач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рет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тмосф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војст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900000" y="1268280"/>
            <a:ext cx="784872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ож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сматрат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е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1.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стор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м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учавај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тс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вој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тмосф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2.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личи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сто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географск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кр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з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ц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икр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лтра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539640" y="620640"/>
            <a:ext cx="79200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Гранична вредност буке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јесте највиша дозвољена вредност индикатора буке. Грани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чне вредности могу бити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различите за различите изворе буке, односно за различите акустичке зоне, као и за различите затворене и отворене просторе у којима бораве љу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Акциони планови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заштите од буке у животној средини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јесу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планови који садрже мере заштите од буке и њених ефеката у животној средини, као и мере за смањење буке у случају прекорачења граничних вред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900000" y="1635120"/>
            <a:ext cx="78487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стор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учава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војства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т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тмосфе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ш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о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к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10-12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km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с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с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о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љу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лац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о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уб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к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11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уб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сећа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ш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о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900000" y="1268280"/>
            <a:ext cx="7848720" cy="56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2.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еличи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сто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географск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акрок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хв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ели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географ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сто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ич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руктур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ич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ип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кеа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епск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сто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зок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граниче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географс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диниц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сти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ч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л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зе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шумск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ПОД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900000" y="1557360"/>
            <a:ext cx="7848720" cy="53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2.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личи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сто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географск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ц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двоје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нпонент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мостал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географск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диниц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л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р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лан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њив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т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гетациј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икро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л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егеографск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личи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тан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нцелариј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олни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);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нос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зем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ло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ис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на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врш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лтра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међ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лојев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ећ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САСТАВ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900000" y="1557360"/>
            <a:ext cx="7848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ч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смич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лур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геоло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САСТАВ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250920" y="1268280"/>
            <a:ext cx="8353440" cy="52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осмич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нц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еб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Телур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личи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рачива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тив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раче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тмосфер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личи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адиоактивн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ра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држа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аши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руг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честиц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Геолош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пустљивос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нчев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ебеск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водљивос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лот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етеоролош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лажнос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емљишт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труја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ш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електриците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900000" y="2081160"/>
            <a:ext cx="7848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ал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сут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елич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тмосфер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латив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лаж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Rv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арометар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Bp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руј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W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ктриците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гађа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реме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авља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агл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лач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иш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не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ла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о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900000" y="2081160"/>
            <a:ext cx="784872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рши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но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мбинаци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СЕВ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О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то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5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се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1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жар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2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мере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2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лад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900000" y="1413000"/>
            <a:ext cx="784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но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ли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емљ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то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5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се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роп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в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2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рућ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ад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п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2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птроп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(4-11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рућ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на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2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-8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мере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међ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-2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мерен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(4-12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-2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ладан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(1-4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мере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-20</a:t>
            </a:r>
            <a:r>
              <a:rPr b="1" lang="en-U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стал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хлад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епературон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п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</a:t>
            </a:r>
            <a:r>
              <a:rPr b="1" lang="en-U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25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лар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в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хладн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п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900000" y="2279520"/>
            <a:ext cx="7848720" cy="34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снов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т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ипов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кеа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аритим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мор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литорал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пне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нтинентал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900000" y="1268280"/>
            <a:ext cx="784872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МОРС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у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л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ери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(7-10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м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на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1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Хладан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ери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ра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2-5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сец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етк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иж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0</a:t>
            </a:r>
            <a:r>
              <a:rPr b="1" lang="sr-Latn-CS" sz="20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в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рактериш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уг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нев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сунчанос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л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ро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ишн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а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суств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елик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невн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леба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од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ј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лет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нижав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им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диж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в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тск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дручј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огат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од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руг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инералн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терија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држ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л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нцентраци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агађујужи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атериј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актери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честиц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755640" y="2209680"/>
            <a:ext cx="792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Аку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1" i="1" lang="pl-PL" sz="2800" spc="-1" strike="noStrike">
                <a:solidFill>
                  <a:srgbClr val="000000"/>
                </a:solidFill>
                <a:latin typeface="Times New Roman"/>
              </a:rPr>
              <a:t>тичко планирање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јесте предузимање мера заштите од буке у будућности, као што су просторно планирање, пројектовање и планирање система саобраћаја, примена звучне заштите путем одговарајуће звучне изолације и звучних баријера, као и праћење нивоа буке коју емитују извори бу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900000" y="1268280"/>
            <a:ext cx="784872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МОРС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тимулиш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физиолошк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це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рганизму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вољн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ормализациј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иса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рвн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тис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а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ендокрин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исте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функциониса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ишић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ж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мирујућ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ЦНС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вољн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тич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немич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соб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хронич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еуматск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еспиратор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олесник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ЕПОВОЉН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ТИЧ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СОБ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КУТН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ЕУМАТСК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БОЉЕЊ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СИХИЧК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РЕМЕЋАЈ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БЦ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РДИОВАСКУЛАРНИ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БОЉЕЊИ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900000" y="2062080"/>
            <a:ext cx="7848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ПНЕ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Годиш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леб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зно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к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50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Ц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нев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леб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20-30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ГЛ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ЛЕБ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ПОВОЉ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РВ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ИСТ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РЕГУЛАЦИО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ХАНИЗМ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3"/>
          <p:cNvSpPr/>
          <p:nvPr/>
        </p:nvSpPr>
        <p:spPr>
          <a:xfrm>
            <a:off x="900000" y="1982880"/>
            <a:ext cx="7848720" cy="36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ТИПОВ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ПНЕ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ис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300-60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дмор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с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876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балпс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600-120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лпс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1200-200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900000" y="1863720"/>
            <a:ext cx="784872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ниск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подручј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(300-600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ОЉ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СОБ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ЛЕЛ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сихич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ремећ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шећер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ВБ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со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-HTA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angina pectoris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спиратор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ронхитис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мфиз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900000" y="1690560"/>
            <a:ext cx="784872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убалпск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(600-1200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ОЉ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ЛЕЛ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лућ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ст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ронхитис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убреж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ам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пш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порав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драв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конвалесц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КЛИМ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900000" y="1484280"/>
            <a:ext cx="7848720" cy="51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Алпск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(1200-2000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m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n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v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ОЉ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ЛЕЛ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хити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ећа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В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нем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уг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ематопоез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рг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ВБ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ишен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рв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пор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м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изичк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ПОВОЉ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ЛЕЛ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сихијатријс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324000" y="1692360"/>
            <a:ext cx="842472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ИГИЈЕ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вар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ољ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повољ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сло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живо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људ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творе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творе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стор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II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КОЛОШ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б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спростир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рансформаци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гађујућ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атер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III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ч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рж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рганиз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дн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пособ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ва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слов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стан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апљич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змнож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екто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носилац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раз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марц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ув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900000" y="1692360"/>
            <a:ext cx="7848720" cy="54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Чове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омеотер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ханизм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изич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емиј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регулац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рж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ал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нутрашњо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граниз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37-38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менљи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ж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27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ме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31-32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чел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34-35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гиб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ме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36-37</a:t>
            </a:r>
            <a:r>
              <a:rPr b="1" lang="sr-Latn-CS" sz="24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900000" y="1557360"/>
            <a:ext cx="7848720" cy="52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ИЗИЧ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РЕГУЛАЦ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гулац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слови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ње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ећа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вар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рганизм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рав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реди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ише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ави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дијациј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нвекциј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трујањ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ндукциј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вођењ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вапорациј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спаравањ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900000" y="1557360"/>
            <a:ext cx="784872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ХЕМИЈС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РЕГУЛАЦ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цес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гулац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горе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атер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рганизм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купн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изводњ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ч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азал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аболи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физич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ктив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келет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шић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нус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тпрандијал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ге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539640" y="836640"/>
            <a:ext cx="792000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ву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чна заштит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т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куп мера којим се обезбеђује да звук при преносу из једног у други простор буде ослабљен, као и мере да се бука уређаја и инсталација у објекту смањ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Звучна заштита подразумева и скуп мера које се спроводе у спољном простору, а које утичу на смањење нивоа звука при простирањ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Звучна заштита се реализује пројектовањем и извођењем звучне изолације конструкција и мерама смањења, односно ограничења бу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 Box 3"/>
          <p:cNvSpPr/>
          <p:nvPr/>
        </p:nvSpPr>
        <p:spPr>
          <a:xfrm>
            <a:off x="900000" y="1557360"/>
            <a:ext cx="7848720" cy="38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9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вис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куп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рши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а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расл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900000" y="1557360"/>
            <a:ext cx="78487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Радијацијо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зраче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а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колних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иж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рши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32</a:t>
            </a:r>
            <a:r>
              <a:rPr b="1" lang="sr-Latn-CS" sz="18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ви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ут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човек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уб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44%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нвекцијо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трујањ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вођењ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ндукцијо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овођењ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а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колног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иж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рши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32</a:t>
            </a:r>
            <a:r>
              <a:rPr b="1" lang="sr-Latn-CS" sz="18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ви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ут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уб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32%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иш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32</a:t>
            </a:r>
            <a:r>
              <a:rPr b="1" lang="sr-Latn-CS" sz="18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C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ста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има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Евапорацијо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спаравање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дин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еханиза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рморегулаци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пољаш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еж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32</a:t>
            </a:r>
            <a:r>
              <a:rPr b="1" lang="sr-Latn-CS" sz="1800" spc="-1" strike="noStrike" baseline="30000">
                <a:solidFill>
                  <a:srgbClr val="800080"/>
                </a:solidFill>
                <a:latin typeface="Times New Roman"/>
              </a:rPr>
              <a:t>0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C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вај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чин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а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21%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еханиза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држав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ренутк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к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 Rv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стиг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100%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кон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г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лаз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егрева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рганизм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н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дар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900000" y="2165400"/>
            <a:ext cx="784872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ЕДИЦИНСК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организам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изузетно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неповољно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делују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температурн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екстрем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еханизм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терморегулациј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н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огу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д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савладају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велик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разлике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између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аксималн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минималних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108000" y="2233440"/>
            <a:ext cx="88567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исо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шир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рв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до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а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итис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брзан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рц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ткуца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ђ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135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ну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морегулацио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ханизм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тказу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ста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лот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да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и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ећ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азал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аболиз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брз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це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горе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ећ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ктивно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келет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шић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скључе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мање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а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иниму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18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18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0" y="1413000"/>
            <a:ext cx="910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исо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вод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: </a:t>
            </a: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локалних и општих поремећаја здрав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исо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јчешћ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вод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 следећих општих поремећај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Дехидрата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Times New Roman"/>
              </a:rPr>
              <a:t>Топлотног оси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них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рчев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следиц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ећаног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зноје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мање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нцентраци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тријумхлорид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рви)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рчев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ављај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келетним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ишићим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рвн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ормалн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ж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лаж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рапиј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ноше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овољних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личи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ла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од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ног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лапс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сцрпљеност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знуреност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следиц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убитк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пособност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илагођава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рвоток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исокој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ормал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л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лак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ише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спод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ормал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ж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лаж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без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бзи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пољн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рапиј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ештачк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расхлађива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отног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да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следиц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тказива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рморегулационих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еханизам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Нагл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убитак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вест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рчев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ише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лес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рвн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ритисак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лак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већан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улс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бржан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ж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ув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оп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рапиј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ештачко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расхлађивањ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Високе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најчешће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доводе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800080"/>
                </a:solidFill>
                <a:latin typeface="Times New Roman"/>
              </a:rPr>
              <a:t>до следећих локалних поремећаја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Главобољ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Вртоглав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Сунчан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Опекотине </a:t>
            </a:r>
            <a:r>
              <a:rPr b="1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900000" y="221616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и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вод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зеб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лаз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паљен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акц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исај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уте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лергиј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ововс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мрза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ИКРОЛИМАТСК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900000" y="1628640"/>
            <a:ext cx="7848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ЛАЖНОСТ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ДРАВЉ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в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исо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ста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парава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од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з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рганизм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ек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лузниц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ож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б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г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стају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ув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опустљив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з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бактери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иру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лажан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исок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немогућен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ава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спаравањем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Шт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емет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рморегулацион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механизм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вод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егрева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р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исоко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лажност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иској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емператур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ваздух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ста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повећан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узимањ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топлот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лази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његовог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расхлађивањ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ЧОВЕК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НАЈБОЉ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СЕЋ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АДА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800080"/>
                </a:solidFill>
                <a:latin typeface="Times New Roman"/>
              </a:rPr>
              <a:t>Rv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КРЕЋЕ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45% </a:t>
            </a:r>
            <a:r>
              <a:rPr b="1" lang="sr-CS" sz="2000" spc="-1" strike="noStrike">
                <a:solidFill>
                  <a:srgbClr val="800080"/>
                </a:solidFill>
                <a:latin typeface="Times New Roman"/>
              </a:rPr>
              <a:t>ДО</a:t>
            </a:r>
            <a:r>
              <a:rPr b="1" lang="sr-Latn-CS" sz="2000" spc="-1" strike="noStrike">
                <a:solidFill>
                  <a:srgbClr val="800080"/>
                </a:solidFill>
                <a:latin typeface="Times New Roman"/>
              </a:rPr>
              <a:t> 7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900000" y="1341360"/>
            <a:ext cx="78487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биолог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ук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уч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веза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и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УЧ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ЧОВЕК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АНАЛИЗИРАЈУЋ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ВЕНСТВЕ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ЗВО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ВИСНО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ФИЗИОЛОГИЈ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патолог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уч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ДРАВ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РГАНИЗА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ФИНИ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179280" y="1341360"/>
            <a:ext cx="856944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ТРОП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чиј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стан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д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тицај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ЈПОЗНАТ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ТРОП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болов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жиљц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реуматс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егоб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зглоб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ромбоемболијс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лућ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емболиј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оронарн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ромбоз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артеријс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венск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тромбоемболиј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аст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епилеп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самоуби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нфективн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грип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морбил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рубел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лиомиелитис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алергијск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(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поленск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кијавица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,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фотодерматозе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1800" spc="-1" strike="noStrike">
                <a:solidFill>
                  <a:srgbClr val="800080"/>
                </a:solidFill>
                <a:latin typeface="Times New Roman"/>
              </a:rPr>
              <a:t>др</a:t>
            </a:r>
            <a:r>
              <a:rPr b="1" lang="sr-Latn-CS" sz="1800" spc="-1" strike="noStrike">
                <a:solidFill>
                  <a:srgbClr val="80008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755640" y="1700280"/>
            <a:ext cx="7920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Звучна изолација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т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војство грађевинске конструкције да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у што већој мери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спречи преношење звучне енергије из једног простора у друг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Звучна изолација може да буде од ваздушног или структурног звука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 о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стварује се на објекту архитектонско-грађевинским мерама које спречавају пренос звука из једног у други прост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ЕХАНИЗАМ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ДЕЛО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324000" y="2576520"/>
            <a:ext cx="8424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ХАНИЗА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О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ат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о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астанак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боље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и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сви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зна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МАТ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ТЕОРОЛОШК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ЕЛЕМЕН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ЈАВ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ЕЛУ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ДРУЖЕНОН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ЕГЕТАТИВ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НЕРВН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ИСТЕ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К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ЊЕГ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ЗАЗИВАЈ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РАЗВО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ИМПТОМ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НАКОВ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03240" y="392040"/>
            <a:ext cx="77724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МЕТЕОРОПАТОЛОГИЈА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0" lang="sr-Latn-CS" sz="32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800080"/>
                </a:solidFill>
                <a:latin typeface="Times New Roman"/>
              </a:rPr>
              <a:t>ПОЗНА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Text Box 3"/>
          <p:cNvSpPr/>
          <p:nvPr/>
        </p:nvSpPr>
        <p:spPr>
          <a:xfrm>
            <a:off x="900000" y="2048040"/>
            <a:ext cx="784872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начај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зна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огућ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дузим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вентивних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ер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клад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однов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болешћу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временом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њеног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јављ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лакш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остављ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ијагн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могућност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давања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евентивно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заштит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тера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ли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8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избегавање</a:t>
            </a:r>
            <a:r>
              <a:rPr b="1" lang="sr-Latn-CS" sz="24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800080"/>
                </a:solidFill>
                <a:latin typeface="Times New Roman"/>
              </a:rPr>
              <a:t>конт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456840" y="380520"/>
            <a:ext cx="83818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дицинска метеорологија</a:t>
            </a: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 утицај временских стања и промена на здрав и болестан организа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медицинског становишта значајна је и </a:t>
            </a: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иноптичка метеорологија</a:t>
            </a: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 прогнозира временске ситуације и на основу којих се дају упутства и савети хроничним болесницима, али и здравим особама, како да поступају у ситуацијама ексцесних временских промен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6840" y="457200"/>
            <a:ext cx="8534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којим се бави медицинска метеорологија је утицај временских прилика на здраво и болесно становништво. При томе се дели на :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еорофизиологију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еоропатологију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еоропрофилаксу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еоротерапиј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Times New Roman"/>
              </a:rPr>
              <a:t>Синоптички систем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304920" y="115920"/>
            <a:ext cx="86104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нтициклон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област повишеног атмосферског притиска. Највиша вредност атмосферског притиска је у центру антициклона, док се према перифереији постепено смањује. У самом централном делу ваздух се са већих висина спушта према земљиној површини, при  чему се загрева, тако да су услови за формирање облака мали. Антициклон подразумева </a:t>
            </a:r>
            <a:r>
              <a:rPr b="0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билно, суво и углавном тихо врем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клон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ваздушна маса која се у нашим пределима углавном премешта са запада на исток или са сверозапада на југоисток. Како се циклони образују на фронталним системима, њиховим премештањем и систем топли-хладни фронт се премешта у истом правцу, узрокујући доста нагле промене времен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здушни притисак све више опад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тар јача и скреће према југу. Када се центар циклона савим приближи посматраној области, ветар нагло слаби и убрзо почиње да </a:t>
            </a:r>
            <a:r>
              <a:rPr b="0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ва јак и хладан ветар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 сверозападног квадранта. </a:t>
            </a:r>
            <a:r>
              <a:rPr b="0" lang="sr-C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пература нагло опа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рема Републичком хидрометеоролошком заводу Србије детерминисане биометеоролошке фазе с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ТС (циклон, топло, сув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ТВ (циклон, топло, влажн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ТФ (топли фрон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ХФ(хладни фрон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ХВ (циклон, хладно, влажно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ХС (циклон, хладно, суво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С (антициклон, хладно, сув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В (антициклон, хладно, влажно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С (антициклон, топло, суво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В (антициклон, топло, влаж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Rectangle 1"/>
          <p:cNvSpPr/>
          <p:nvPr/>
        </p:nvSpPr>
        <p:spPr>
          <a:xfrm>
            <a:off x="684360" y="476280"/>
            <a:ext cx="792000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БИОМЕТЕОРОЛОШКЕ ФАЗЕ-БМ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2133720" y="26668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76212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762120" y="1600200"/>
            <a:ext cx="7696080" cy="46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СОБИТОС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ДИЗ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ТПОРНОС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довољ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учен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цес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ста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ређени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вољни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тицаје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ктор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пољ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редин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игр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контроло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з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адејств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ЦНС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почи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јранијег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тињст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треб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ржав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г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око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целог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живот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76212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"/>
          <p:cNvSpPr/>
          <p:nvPr/>
        </p:nvSpPr>
        <p:spPr>
          <a:xfrm>
            <a:off x="108000" y="1600200"/>
            <a:ext cx="835020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СЛОВ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СТАНК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ОДРЖАВАЊ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опход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ал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нављ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цедур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бегав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уж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кид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међ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њ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степе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мењ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слов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фактор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мењив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в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уж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опходн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истематичност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шт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одразуме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оцесим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треб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започе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ајранијем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тињств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имењива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убок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тарости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еликих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прекид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Неопход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стовремено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излагањ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дејству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више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66"/>
                </a:solidFill>
                <a:latin typeface="Times New Roman"/>
              </a:rPr>
              <a:t>средстава</a:t>
            </a:r>
            <a:r>
              <a:rPr b="1" lang="sr-Latn-CS" sz="24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2"/>
          <p:cNvSpPr/>
          <p:nvPr/>
        </p:nvSpPr>
        <p:spPr>
          <a:xfrm>
            <a:off x="762120" y="5335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ЈАЧАЊЕ</a:t>
            </a:r>
            <a:r>
              <a:rPr b="1" lang="sr-Latn-C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66"/>
                </a:solidFill>
                <a:latin typeface="Times New Roman"/>
              </a:rPr>
              <a:t>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3"/>
          <p:cNvSpPr/>
          <p:nvPr/>
        </p:nvSpPr>
        <p:spPr>
          <a:xfrm>
            <a:off x="762120" y="2249640"/>
            <a:ext cx="6324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ОРГАНИЗАМ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МОЖЕМО</a:t>
            </a:r>
            <a:r>
              <a:rPr b="1" lang="sr-Latn-C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ЈАЧ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АЗДУХ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СУНЦ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66"/>
                </a:solidFill>
                <a:latin typeface="Times New Roman"/>
              </a:rPr>
              <a:t>ВО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0:27:59Z</dcterms:created>
  <dc:creator>Windows User</dc:creator>
  <dc:description/>
  <dc:language>en-US</dc:language>
  <cp:lastModifiedBy>Pc</cp:lastModifiedBy>
  <dcterms:modified xsi:type="dcterms:W3CDTF">2020-09-06T10:22:21Z</dcterms:modified>
  <cp:revision>22</cp:revision>
  <dc:subject/>
  <dc:title>ХИГИЈЕНА И ЕКОЛОГИЈА</dc:title>
</cp:coreProperties>
</file>